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DBCE-8278-44AD-AA10-F2EE4C75E7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2B6-B167-4AEA-A288-E95854A6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4C7-F8C8-417A-B7CE-F7D03D7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30A7-86E0-403D-9175-C38A3CB7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AEA-171A-4F79-B7C7-CB0F4F4C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4AD8-EB21-4D42-9515-15AEC5D9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D0CB-9F7A-4F0D-B053-F65B9709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A19B-4D61-46FF-AAC1-91401217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3509-35FB-4116-BFE1-01E6A98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15E0-CC08-4E12-B110-41FC3EB0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C167-4D6A-4E5A-A081-78134E55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085-78E7-4D35-8B93-D9202D4B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8C6-8AE3-4036-B232-0578D1F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E072-D63C-4311-8882-796712EF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2B26-BF0F-454F-A693-BA44860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2CBE-D04B-4CA2-B18C-B164BD18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E72C-06BE-4419-967D-82963524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30C4-99C6-45E6-B9DB-89748CCC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C050-C94E-4834-BA95-65736813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4A3-B248-4199-9970-B2224D4C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FF5-BD51-4DEB-A874-7D243A64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F2D-9A87-4BB9-B2AD-300D5EB1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83B-894D-475D-8D57-559E1CE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B34-B5EC-49EE-A8AE-23B4463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5B0-EFCF-4A32-916E-D30672C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D3B4-D803-432B-9FAB-37BD582D12DF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4D8C-7297-4F5B-9835-C8A2C72B3BFC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7-02-19T02:28:42Z</dcterms:modified>
  <cp:revision>371</cp:revision>
  <dc:subject/>
  <dc:title>模板</dc:title>
</cp:coreProperties>
</file>