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8E66-A5CA-4A7C-A015-47799D28583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0C7D-A2FA-4A17-986C-2B5DA89F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8F96-B442-46B8-9243-C9EEFB33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DDA0-20CF-445B-81C7-1DEFDEFB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D45E-7C26-4EB2-848B-77EA893F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0DA1-283C-443A-A77D-CB3A1DD9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D34E-BF1B-46C4-B5EF-161F515D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6188-06F0-4826-AB82-ADBF59B9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682D-8FA4-4392-AF43-7C529858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6A31-E612-41BA-AA61-E2431BAA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B37A-EE9A-43B6-B1FD-94257C27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2615-1EBE-4751-AA24-B0A3877D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C4D3-AB49-4719-A1F3-1A67D245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CAEF-E304-4E5E-9004-C4B6504902B3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Garamond"/>
              <a:ea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Garamond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24460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013200"/>
            <a:ext cx="914544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78288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9048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330120" y="95400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280" y="6937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04840" y="69048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7640" y="690480"/>
            <a:ext cx="1582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14670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04840" y="146196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6200" y="146052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22399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04840" y="224460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96200" y="224460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0132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04840" y="3013200"/>
            <a:ext cx="2595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96200" y="3013200"/>
            <a:ext cx="15825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37861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04840" y="378288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96200" y="378288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45594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04840" y="454644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96200" y="454968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53323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04840" y="532440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96200" y="532116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61056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04840" y="6093000"/>
            <a:ext cx="2595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96200" y="608472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18720" y="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18720" y="773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18720" y="155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18720" y="2319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18720" y="3092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18720" y="38656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18720" y="4638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18720" y="54118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4840" y="0"/>
            <a:ext cx="900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04840" y="0"/>
            <a:ext cx="264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6200" y="0"/>
            <a:ext cx="160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51200" y="6937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 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各项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51200" y="1463760"/>
            <a:ext cx="36068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51200" y="224784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51200" y="301608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51200" y="37861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1200" y="45529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51200" y="532440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51200" y="608796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51200" y="0"/>
            <a:ext cx="2468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6-29T09:07:36Z</dcterms:modified>
  <cp:revision>160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