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E12A-3DDA-4734-B478-B07C96C93B0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F654-A05A-49C3-868E-158B891D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93F-ACF2-4146-984E-9CCE2A15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8482-F38A-4E78-80F3-10F92EDE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FBF8-C3AC-4974-8937-1FAE9873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1951-0A29-467E-AC62-CA72B60F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7DC0-B7DA-4919-9885-9A385A8F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40B4-420C-4770-ADDE-E49144C1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7D7E-C139-49F1-ACEF-BEAC107C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A7E-D941-4C30-890F-D9D26D2A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FFCF-C051-442B-B6E7-A9477447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A94E-810C-46AA-978F-2E343911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542-99FD-4A23-93DC-2758BAC1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FDF7-BF24-4DBD-A4E4-A419FDF4AD46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张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46880" y="690480"/>
            <a:ext cx="16318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46880" y="146052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46880" y="224460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27907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46880" y="3013200"/>
            <a:ext cx="16448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46880" y="378288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46880" y="454968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46880" y="532116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27907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46880" y="608472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46880" y="0"/>
            <a:ext cx="2041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690480"/>
            <a:ext cx="2681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6680" y="146052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6680" y="224460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6680" y="3013200"/>
            <a:ext cx="2703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6680" y="378288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6680" y="454968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6680" y="532116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6680" y="608472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0"/>
            <a:ext cx="277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6-29T09:08:28Z</dcterms:modified>
  <cp:revision>17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