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CD96-8536-419B-AB66-3CD67B2E5E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5AB-6AE1-4873-8876-4FFFA923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0A3-F5BC-4425-816A-2A4D0466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8B1A-0D94-4529-A5D1-BFD1014D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CA2-6AA6-4EF6-B68D-83A10B03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40B-D82A-47E0-93C2-30EBB007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7C7-0CF7-4CDD-A913-FD8F9631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146-20FF-422A-90BC-B0E41E3F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904F-47B7-4528-B8A8-87A759AD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4B5-ADFF-461C-B3FB-9CA5B818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E38-83F3-4AB6-86B1-CFEBB6B1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DD8-CA0B-489C-A909-DEC71BAC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CC0-AD46-400B-9152-FA9417AA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0433-8D59-44D9-BEB7-E7EDEB1E6740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50000">
              <a:srgbClr val="0000cc"/>
            </a:gs>
            <a:gs pos="100000">
              <a:srgbClr val="0000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3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26:43Z</dcterms:modified>
  <cp:revision>6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