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091A-2C6C-4BB2-B673-BEA81045208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CAA4-1EEB-428C-BC18-4ECC9938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F9A2-E9A5-45CC-A8DC-3498E056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1B45-F119-4916-B402-9E71AE26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01E-952A-400A-9E37-9D4BE61E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AD00-98B9-4B61-8570-D9467C97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714-BB07-41E6-9389-BAD6F64E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B00-C9C6-43B5-B707-41D31C78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9DA8-7A6E-45D0-9EA0-D591CC5D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9CE-2258-4BC7-BB80-ABC88CC9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FC25-7030-4583-A34C-1BFC7349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6491-9380-433C-8092-77C37573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733-A619-4C1F-89B4-77857979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5440-7043-463D-B3BE-4E03D193934B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2016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•决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</cp:lastModifiedBy>
  <dcterms:modified xsi:type="dcterms:W3CDTF">2016-08-23T01:03:44Z</dcterms:modified>
  <cp:revision>20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