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75D5-F737-4F06-A929-018F77984C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F0A-47EF-4799-A331-ACC5ABC6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0AD7-F2E1-4402-8A66-5AD575B6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C33-04E6-4B55-B3E6-ED5DC9A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CBB-730E-416E-B886-DC9C88B8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E09-BDB7-4FB1-85AE-97605773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BCC-145F-47FC-A3D4-8670B9C9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13E-E343-402E-964C-39151627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6C6-1B14-4262-909F-DCA950A4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F03-C2A8-4AF1-8CB8-B30A702A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1D1-9E73-4E01-A1E1-547AB860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44D-45F1-4518-B827-9C60F35C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40F-242B-4B35-BE67-D62B7A8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1" marL="653760" indent="-2512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2" marL="1005840" indent="-200880">
              <a:spcBef>
                <a:spcPts val="100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3" marL="1407960" indent="-200880">
              <a:spcBef>
                <a:spcPts val="1001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4" marL="1810440" indent="-200880">
              <a:spcBef>
                <a:spcPts val="1001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40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701A-0660-4C22-A2CA-7DDA64559B28}" type="slidenum"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1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9228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8560" y="719280"/>
            <a:ext cx="69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动画自定义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2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4:35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