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3F68-5B64-416D-9687-CFA05B5B3F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D6D-EF08-4F44-B3A2-CF09DDA6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E85-1C2D-45EE-A7B5-3E37D1F6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746-E5F9-4F2D-A954-E3D2B142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293-DDFD-4BCA-8768-F14F8689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447-6735-4DCA-9BBA-381E7709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6DA3-1244-4D0B-B29A-5A3A14F0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DE74-6B38-412B-9CF8-98A4103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789A-30A0-4197-AF34-4BBE802F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EB0-1DBD-48F4-95C0-95BCAD49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98D-663D-423E-B390-38617405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75E-2FB9-4E31-ABA0-E55E5F2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51F-7931-4104-9CD5-5A1B4B9E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134A-955F-4639-9B71-95293670757F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590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</a:rPr>
              <a:t>赞助单位</a:t>
            </a:r>
            <a:endParaRPr b="0" lang="en-US" sz="60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1438200"/>
            <a:ext cx="8062920" cy="35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六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行易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和谐网络科技有限责任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祺创太阳能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神光新能源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远征流体控制股份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14382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铭越信息科技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西安航天华阳印刷包装设备有限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四研究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航天科技集团公司第五研究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50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中国兵器工业集团公司第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06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陕西天惠科技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集团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3:22Z</dcterms:modified>
  <cp:revision>33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