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33CC-5786-4AF6-9A3A-8240054DF5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F0F-378A-4692-B953-9EC742DF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A33-8F9B-4722-AEEE-11AD3DFC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175-F598-4B28-8323-884F1F75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853-B5FF-4810-A6EB-15209052B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9F1-97A3-46C5-91BC-F8B457A0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A5C-0251-4445-8A45-D5928586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E463-65B2-4469-9DE7-CC009F1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E32-CB16-437F-8DF3-181747B2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C45-34BD-4334-A69C-E3B2448C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50F-A9BE-4B23-A681-6D3BDCC1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ED4-C57B-434A-AE61-D1B08DD4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A0B-CF01-4BEC-8CA3-8A02AACD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36D3-C9C8-4EAE-855B-70809CD795E7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导出新风采  游出全世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68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传承导游文化  美丽智慧同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020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华夏风光世无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如诗如画游家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揽众山水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阅古今之事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一口之才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,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将游历道说 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9144000" cy="359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好山好水家乡美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Tahoma"/>
              </a:rPr>
              <a:t>            尽心尽责导八方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30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