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D67B-539E-4EB9-9853-DF29F0E2A0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E92C-E103-427D-8490-1592E759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ADE-E373-428D-B81A-C4A6606F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AD8-E1DC-43F0-8230-B25C6038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593-9826-4427-984D-68B96C57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45D4-5427-4167-B4AA-E0E8F646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978-FC26-4610-9E4E-EF55B6C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677-A5C0-4786-AD14-A6AC227F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1356-7F95-4D1B-B47B-3EF4F83D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8681-56E0-4689-95C4-AE3CE22A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EAF-B251-42BD-9D41-076DA039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1E8-5D44-4D70-A2BE-315FA95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0C1-6378-4A19-9A8D-9B0E8E78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55DD-0033-4A56-9695-E01240146821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8560" y="719280"/>
            <a:ext cx="7093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开根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谐网络科技公司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何惠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航天大学计算机系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建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行易软件总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评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-720720" y="0"/>
            <a:ext cx="14414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简勇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易艳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副主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黄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大学科技部经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监审组成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-324000" y="3860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54Z</dcterms:modified>
  <cp:revision>1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