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39F9-563C-4CFB-A0E7-D0A1CE750AD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4E56-A9D6-4B7F-86D9-5ED2DC33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0A15-E592-4054-ACDC-79E04410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37AF-ED2C-4C47-8F49-2B321DB9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1D23-32EF-443B-988C-A9FC77CC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0413-A535-422B-85F6-3D1B01A9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1B82-122F-4846-B7F2-193BFC75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9D27-ECD7-44F8-9672-212FDBCD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B94D-3A4F-45AC-9500-E65BFB5D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3F6F-F1F7-4D02-8763-3F9E4774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2DE9-D8B1-4CAF-98BF-2A75C7D7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259D-6ACE-4757-8558-21C5D80B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E23B-1E8F-4AEF-B908-A7932088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1" marL="653760" indent="-2512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2" marL="1005840" indent="-2008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3" marL="1407960" indent="-2008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4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5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6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4AAA-2CD2-4597-BA12-3B4A50FF4263}" type="slidenum"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79640" y="617400"/>
            <a:ext cx="676908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本次大赛采用百分制，选手满分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0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本次大赛专家评审团，去掉一个最高分及一个最低分后的剩余评委的平均值，再取重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80%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即满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8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本次大赛大众评审团打分总分占选手最终实际总分的权重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0%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即满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2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大众评审团每位成员有三张打分牌：优秀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2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、良好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16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、一般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=1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计分细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0" y="260280"/>
            <a:ext cx="1008000" cy="882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79640" y="620640"/>
            <a:ext cx="676908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每位选手演讲完毕后，大众评审团当场亮分，大会主持分别宣布优秀、良好、一般票数。举牌即为有效分数，不举牌即视为弃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根据有效票数，计算大众评审团总分，除以有效票数相应的满分总分，再乘以大众评审团占选手最终实际总分的满分权重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，即为该选手大众评审团部分的最终得分。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保留小数点后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位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692280"/>
            <a:ext cx="1296720" cy="3024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计分细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-324000" y="3213000"/>
            <a:ext cx="115272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4:14Z</dcterms:modified>
  <cp:revision>17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