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9165-001F-41A8-8AF6-E5B0F10EC7B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0C95-3736-43ED-BF0B-FB18552A0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6527-D3D4-4683-89A6-2CF66CA7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C92B-4824-43F5-BCE4-69C308EEC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37FC-DF8C-407C-B174-E0AE2C4FA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2223-5D39-4258-9E63-2EDA1CDD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0CAD-2893-42D2-AF33-A4890866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DD13-9719-418C-9E29-11EF44C2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4327-FA38-4881-BD95-0DE36052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C470-9087-4915-9605-D1B1C381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6269-EC55-4BDD-B8D4-D8F9D870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4FF6-CCFF-4195-BF8C-E5408B36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0A5C-5959-402D-AA15-098D7845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1" marL="653760" indent="-2512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2" marL="1005840" indent="-2008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3" marL="1407960" indent="-2008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4" marL="1810440" indent="-200880">
              <a:spcBef>
                <a:spcPts val="1001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DCC4-E634-428E-860F-6E0EF8E7CB0B}" type="slidenum"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2133720"/>
            <a:ext cx="7848720" cy="21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通知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比赛结束后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领队管理好自己的队员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请循就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4:23Z</dcterms:modified>
  <cp:revision>14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