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  <p:custShowLst>
    <p:custShow name="FY1" id="0">
      <p:sldLst>
        <p:sld r:id="rId5"/>
      </p:sldLst>
    </p:custShow>
    <p:custShow name="FY2" id="1">
      <p:sldLst>
        <p:sld r:id="rId6"/>
      </p:sldLst>
    </p:custShow>
    <p:custShow name="FY3" id="2">
      <p:sldLst>
        <p:sld r:id="rId7"/>
      </p:sldLst>
    </p:custShow>
    <p:custShow name="FY4" id="3">
      <p:sldLst>
        <p:sld r:id="rId8"/>
      </p:sldLst>
    </p:custShow>
    <p:custShow name="FY5" id="4">
      <p:sldLst>
        <p:sld r:id="rId9"/>
      </p:sldLst>
    </p:custShow>
    <p:custShow name="FY6" id="5">
      <p:sldLst>
        <p:sld r:id="rId10"/>
      </p:sldLst>
    </p:custShow>
    <p:custShow name="FY7" id="6">
      <p:sldLst>
        <p:sld r:id="rId11"/>
      </p:sldLst>
    </p:custShow>
    <p:custShow name="FY8" id="7">
      <p:sldLst>
        <p:sld r:id="rId12"/>
        <p:sld r:id="rId13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EF729-2528-401F-AFC7-4E2805073D87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第一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页默认空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过画面越简单越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一般作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启动时的画面过渡使用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幻灯数量至少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以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】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使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5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6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7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8 (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自定义放映名称大写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都有确定的一个或多个幻灯与它们对应即可。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幻灯数量及内容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以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】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使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5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6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7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8 (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自定义放映名称大写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都有确定的一个或多个幻灯与它们对应即可。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幻灯数量及内容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以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】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使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5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6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7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8 (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自定义放映名称大写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都有确定的一个或多个幻灯与它们对应即可。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幻灯数量及内容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以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】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使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5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6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7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8 (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自定义放映名称大写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都有确定的一个或多个幻灯与它们对应即可。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幻灯数量及内容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以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】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使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5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6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7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8 (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自定义放映名称大写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都有确定的一个或多个幻灯与它们对应即可。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幻灯数量及内容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以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】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使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5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6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7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8 (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自定义放映名称大写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都有确定的一个或多个幻灯与它们对应即可。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幻灯数量及内容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以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】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使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5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6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7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8 (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自定义放映名称大写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都有确定的一个或多个幻灯与它们对应即可。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幻灯数量及内容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以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】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使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5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6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7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8 (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自定义放映名称大写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都有确定的一个或多个幻灯与它们对应即可。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幻灯数量及内容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以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】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使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5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6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7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8 (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自定义放映名称大写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都有确定的一个或多个幻灯与它们对应即可。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幻灯数量及内容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以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】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使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5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6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7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Y8 (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自定义放映名称大写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都有确定的一个或多个幻灯与它们对应即可。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Garamond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232000" cy="23446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2771640" cy="256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50920" y="692280"/>
            <a:ext cx="1296720" cy="302400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第八环节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-324000" y="3213000"/>
            <a:ext cx="1152720" cy="12240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1979640" y="617400"/>
            <a:ext cx="6769080" cy="583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自定义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8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自定义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8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979640" y="617400"/>
            <a:ext cx="6769080" cy="583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自定义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1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自定义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1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50920" y="692280"/>
            <a:ext cx="1296720" cy="3024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第一环节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0" y="260280"/>
            <a:ext cx="1008000" cy="88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50920" y="692280"/>
            <a:ext cx="1296720" cy="302400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第二环节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-324000" y="3213000"/>
            <a:ext cx="1152720" cy="1224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979640" y="617400"/>
            <a:ext cx="6769080" cy="583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自定义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2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自定义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2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50920" y="692280"/>
            <a:ext cx="1296720" cy="302400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第三环节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-324000" y="3213000"/>
            <a:ext cx="1152720" cy="1224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1979640" y="617400"/>
            <a:ext cx="6769080" cy="583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自定义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3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自定义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3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250920" y="692280"/>
            <a:ext cx="1296720" cy="302400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第四环节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-324000" y="3213000"/>
            <a:ext cx="1152720" cy="1224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979640" y="617400"/>
            <a:ext cx="6769080" cy="583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自定义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4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自定义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4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50920" y="692280"/>
            <a:ext cx="1296720" cy="302400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第五环节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-324000" y="3213000"/>
            <a:ext cx="1152720" cy="1224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1979640" y="617400"/>
            <a:ext cx="6769080" cy="583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自定义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5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自定义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5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250920" y="692280"/>
            <a:ext cx="1296720" cy="302400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第六环节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-324000" y="3213000"/>
            <a:ext cx="1152720" cy="12240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1979640" y="617400"/>
            <a:ext cx="6769080" cy="583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自定义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6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自定义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6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50920" y="692280"/>
            <a:ext cx="1296720" cy="302400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第七环节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-324000" y="3213000"/>
            <a:ext cx="1152720" cy="12240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1979640" y="617400"/>
            <a:ext cx="6769080" cy="583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自定义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7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自定义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7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250920" y="692280"/>
            <a:ext cx="1296720" cy="302400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第八环节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-324000" y="3213000"/>
            <a:ext cx="1152720" cy="12240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979640" y="617400"/>
            <a:ext cx="6769080" cy="583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自定义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8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自定义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8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4T05:16:28Z</dcterms:created>
  <dc:creator>行易软件</dc:creator>
  <dc:description/>
  <cp:keywords/>
  <dc:language>en-US</dc:language>
  <cp:lastModifiedBy>行易软件 http://www.ExeSoft.cn</cp:lastModifiedBy>
  <dcterms:modified xsi:type="dcterms:W3CDTF">2014-08-15T06:06:02Z</dcterms:modified>
  <cp:revision>386</cp:revision>
  <dc:subject/>
  <dc:title>自定义放映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326137008</vt:r8>
  </property>
  <property fmtid="{D5CDD505-2E9C-101B-9397-08002B2CF9AE}" pid="3" name="_ReviewingToolsShownOnce">
    <vt:lpwstr/>
  </property>
  <property fmtid="{D5CDD505-2E9C-101B-9397-08002B2CF9AE}" pid="4" name="_TemplateID">
    <vt:lpwstr>TC100690501033</vt:lpwstr>
  </property>
</Properties>
</file>