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DD66-AAAF-4E62-AFA2-BE5F604FA53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3681-DB26-45D0-BC92-620C27C7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E4E4-7AC6-40F8-83FA-C4FDF509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60C6-8C6F-4E91-8DEC-9A960BC7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D1C9-53AA-48B0-9B2C-8A084520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E7C3-BB7A-4D8E-9332-2AAB5DDD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007B-05DE-440A-A602-F5E0F8A9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A2A5-986C-4A64-9E24-F74FD238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C375-D755-43B2-B269-82918075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ECE-3387-4100-B209-86C3907D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28C-C8EC-4A97-8D7E-C89F38E6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C9F1-05C4-422B-B1A1-FC72F017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AA47-90C1-45D6-A5EA-405DEE3A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3B49-FD39-4E8F-9886-AC1FFCAD628A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6937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48240" y="690480"/>
            <a:ext cx="3527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14670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48240" y="14605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2399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224460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0132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48240" y="3013200"/>
            <a:ext cx="3538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861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48240" y="37828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45594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48240" y="45496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53323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48240" y="532116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61056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48240" y="60847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18720" y="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18720" y="773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18720" y="155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18720" y="2319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18720" y="3092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18720" y="38656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18720" y="4638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18720" y="54118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9680" y="0"/>
            <a:ext cx="105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4840" y="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0"/>
            <a:ext cx="352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/>
  <dc:description/>
  <cp:keywords/>
  <dc:language>en-US</dc:language>
  <cp:lastModifiedBy>行易软件 http://www.ExeSoft.cn</cp:lastModifiedBy>
  <dcterms:modified xsi:type="dcterms:W3CDTF">2013-07-14T09:45:19Z</dcterms:modified>
  <cp:revision>17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