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A5B0-D9E4-4A5F-BC03-A52A9DEFCA95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要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56F8-8357-4697-898A-B21FE43D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786-BF78-4AD5-8CE0-469B856E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84E-BC5A-4343-9DB0-3139AF3A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3C3-E126-4B8F-AAAF-BEC700E2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8C95-AE39-4A07-A8D6-CE4AEF6B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D27-AEBA-4C08-A710-ACF6DDC1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490C-EB24-4B3F-93C3-C7747483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DAD8-97EC-4134-B91E-1B95A27E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9DC-AF76-40B3-86E6-215B73A8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3857-7EC5-4426-8C5A-CC8D8FE8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1DB0-A531-4269-AFD1-04CE7AD5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0F2C-2E17-49CF-803D-9AC8AD81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B3BD-DCF0-4A75-89F8-2667A7325515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6360" y="690480"/>
            <a:ext cx="41450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65840" y="14605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65840" y="224460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3133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5840" y="3013200"/>
            <a:ext cx="41781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65840" y="37828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65840" y="45496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5840" y="532116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3132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65840" y="60847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8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15080" y="0"/>
            <a:ext cx="447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44:18Z</dcterms:modified>
  <cp:revision>16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