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CB6D-B344-4FBE-AD3A-3EE2C399406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抽签仪式活动主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及抽签滚动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此幻灯展示选手照片，照片框位于可视界面之内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3527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抽签仪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333360"/>
            <a:ext cx="2016360" cy="29512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132000" y="404640"/>
            <a:ext cx="194472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404640"/>
            <a:ext cx="36748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1700280"/>
            <a:ext cx="65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6720" y="2349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781440" y="4724280"/>
            <a:ext cx="3565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92720"/>
            <a:ext cx="9144000" cy="2421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黑体"/>
              </a:rPr>
              <a:t>抽签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56720" y="3789360"/>
            <a:ext cx="4572000" cy="865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1708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30T02:57:37Z</dcterms:modified>
  <cp:revision>520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