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DBE5-DF96-4AB1-B99F-1228BA77E25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DF2-5A1B-41BC-969C-C4F1EB07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F49F-FBDC-4DCA-9AAF-2CF66C88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E13E-A4D3-4D2F-9294-6897930A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99F4-05E8-4506-AB37-201D99A3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5C9-6380-4380-B733-194241D1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6642-DE76-42D1-8F94-4F9F2D98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560D-F06A-49DF-8766-E37D3116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B01-D378-41E2-8C22-7B46ECE8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2F8-9A77-46D6-A40C-0CBD43E3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B83-5B86-4ABE-A7E3-C1D76E92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04ED-EE22-4C57-9632-D7EE6268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90D8-2456-4682-88EC-266A0E08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FB8D-E38B-4D5A-8291-D804E5B5AA05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2484360" y="836640"/>
            <a:ext cx="2016000" cy="259236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24000" cy="1341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620640"/>
            <a:ext cx="1548000" cy="576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1-30T08:21:22Z</dcterms:modified>
  <cp:revision>12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