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W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17C5-1F9B-4536-A0D7-EF4871B3837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评委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评委信息展示幻灯。里面的文本框及图片框不能删除，但可以随意拖动。此模板不展示选手照片，所以照片框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5EA4-B01E-4E6F-802D-EE97885B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CBF3-B5D8-4D82-A480-BAD3AFE4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119F-37EC-4F6C-9764-F78E168C1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ED24-E48D-48BB-A757-9A77A94E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ECEE-5010-490A-BF7F-6406E4F6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FCD4-3028-4CA4-A9D7-7D6D0959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0ADA-F85A-4C77-BB9C-115FD470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2E61-EED2-46D8-BB35-B97FC646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C23C-6AAB-4B61-9212-2BC3419B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8367-EDBB-420A-A5F0-7879FC7B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7173-E7FC-4ACC-BF36-DF9D5379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F4B5-6809-46CC-A565-52A4A456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DFDC-6D22-4AE0-81A0-0E48AD0FC385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专家评委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2484360" y="765000"/>
            <a:ext cx="2160360" cy="266400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92280"/>
            <a:ext cx="9144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评委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3716280"/>
            <a:ext cx="698508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评委描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28T11:16:37Z</dcterms:modified>
  <cp:revision>12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