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0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7909-5CDE-4340-B7BB-244383ECE91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所有项目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各个项目得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6364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37120" y="836640"/>
            <a:ext cx="381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9892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37120" y="90792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1124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1124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14480" y="2421000"/>
            <a:ext cx="79236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14480" y="3500280"/>
            <a:ext cx="792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2276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2276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27440" y="2421000"/>
            <a:ext cx="79236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27440" y="3500280"/>
            <a:ext cx="792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30680" y="2421000"/>
            <a:ext cx="79236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30680" y="3500280"/>
            <a:ext cx="792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3572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3572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38960" y="2421000"/>
            <a:ext cx="79236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38960" y="3500280"/>
            <a:ext cx="792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4400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4400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61236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61236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691640" y="44280"/>
            <a:ext cx="100836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691640" y="141300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77308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77308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85236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85236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9334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9334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974920" y="4608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9749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5520" y="-2187720"/>
            <a:ext cx="1150920" cy="4636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3340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-218772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7332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03560" y="-218772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1180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41680" y="-218772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5136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81600" y="-218772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128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21520" y="-218772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549080" y="2421000"/>
            <a:ext cx="496872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510080"/>
            <a:ext cx="9144000" cy="863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7245360"/>
            <a:ext cx="504180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5734080"/>
            <a:ext cx="5867280" cy="719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684360" y="7966080"/>
            <a:ext cx="313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805360"/>
            <a:ext cx="3132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6364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63640" y="404640"/>
            <a:ext cx="1297080" cy="158292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76500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83664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27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615600" y="227664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61236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3280" y="-2763720"/>
            <a:ext cx="720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定制算法分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544500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589080" y="537372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0" y="-420372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445000"/>
            <a:ext cx="35989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2916360" y="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7597800" y="458136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7597800" y="685800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5581800" y="404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6-11-30T04:07:59Z</dcterms:modified>
  <cp:revision>664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