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095C-241D-4C50-B2FB-499C276DD47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所有项目得分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每项得分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9856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37120" y="898560"/>
            <a:ext cx="38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9892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907920"/>
            <a:ext cx="3603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9220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928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436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2456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0872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128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3862440"/>
            <a:ext cx="117288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9094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9094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990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990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068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068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114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114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195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95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274880" y="4428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274880" y="141300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354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354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435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435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5152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5152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963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963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637800" y="4608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6378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71720"/>
            <a:ext cx="1266840" cy="463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420720" y="-1467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4581360"/>
            <a:ext cx="7490160" cy="86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5516640"/>
            <a:ext cx="4932360" cy="10080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0" y="-1251000"/>
            <a:ext cx="31305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612720" y="5589720"/>
            <a:ext cx="403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歌曲演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129708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1928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-139536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51640" y="187200"/>
            <a:ext cx="1297080" cy="505080"/>
          </a:xfrm>
          <a:prstGeom prst="rect">
            <a:avLst/>
          </a:prstGeom>
          <a:noFill/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黑体"/>
              </a:rPr>
              <a:t>14</a:t>
            </a:r>
            <a:r>
              <a:rPr b="1" lang="zh-CN" sz="2000" spc="-1" strike="noStrike">
                <a:solidFill>
                  <a:srgbClr val="ffff00"/>
                </a:solidFill>
                <a:latin typeface="Arial Black"/>
                <a:ea typeface="黑体"/>
              </a:rPr>
              <a:t>附加名</a:t>
            </a: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1640" y="765000"/>
            <a:ext cx="1297080" cy="36036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隶书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515772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隶书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隶书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-3916440"/>
            <a:ext cx="1800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5084640"/>
            <a:ext cx="30211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04292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515880" y="-2475000"/>
            <a:ext cx="287964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03520" y="-2475000"/>
            <a:ext cx="172872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1297080" y="-370044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404120" y="-2475000"/>
            <a:ext cx="2521080" cy="900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2637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7597800" y="458136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-3627360"/>
            <a:ext cx="2016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-5581800" y="404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黑体"/>
              </a:rPr>
              <a:t>2016</a:t>
            </a:r>
            <a:r>
              <a:rPr b="1" lang="zh-CN" sz="6000" spc="-1" strike="noStrike">
                <a:solidFill>
                  <a:srgbClr val="ffffff"/>
                </a:solidFill>
                <a:latin typeface="Arial Black"/>
                <a:ea typeface="黑体"/>
              </a:rPr>
              <a:t>全国导游大赛</a:t>
            </a: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黑体"/>
              </a:rPr>
              <a:t>•</a:t>
            </a:r>
            <a:r>
              <a:rPr b="1" lang="zh-CN" sz="6000" spc="-1" strike="noStrike">
                <a:solidFill>
                  <a:srgbClr val="ffffff"/>
                </a:solidFill>
                <a:latin typeface="Arial Black"/>
                <a:ea typeface="黑体"/>
              </a:rPr>
              <a:t>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1-30T04:10:13Z</dcterms:modified>
  <cp:revision>714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