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6004-8F13-47C0-BAFA-BFC1B7445C8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C37C-FC97-4860-A541-99506266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ECED-E0B1-4EE3-A3DF-C1401341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93B8-2CFD-499D-9EBA-DBE39DFC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89D2-053E-4F00-B0A3-76E441CB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5CAA-B6ED-42E8-BFFA-BD8E4A6B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938B-74CE-4642-A971-3A6317DB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D650-1636-434B-8928-0937CBAF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A44E-9403-4EED-BFDE-7493030A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B36E-B2FB-44A6-8C6D-C6CFA138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EBC7-672F-411C-836F-586B4CD1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3135-D8FD-46E1-9124-4267BE19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7E42-5D41-4A4A-8BEF-9FB8B870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C152-063C-4221-B076-8AC70E3D449D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937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24640" y="690480"/>
            <a:ext cx="1706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670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46196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2320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399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224460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23200" y="2244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0132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301320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23200" y="30132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7861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37828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23200" y="3782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59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454644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23200" y="45496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332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532440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2320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1056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6093000"/>
            <a:ext cx="621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2320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37916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37916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37916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37916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37916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37916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37916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37916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48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53:34Z</dcterms:modified>
  <cp:revision>160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