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0730-D47B-4662-8DA2-0A1A9830666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31D9-F97A-41F3-990B-EE7B76E3D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D3E0-76DD-4E7B-82F2-081A36F6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3F75-500F-4020-8719-614186382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56D6-0494-4BC4-952F-79A7D83BE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B347-D9F4-4F42-ACE8-6A54CC3E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2A65-2855-4874-9659-D8F43C8F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E00F-4CF5-450D-93B3-3AEE6C46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8654-9086-42C4-ADD9-33016B3A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CACF-A6FE-4B7D-A47B-E82BDA2C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73ED-B121-49E4-9591-4E3408ED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344C-F965-4247-A9C3-DFF8AF26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0EDD-7338-4EC8-97C0-2BE6A93B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8BC8-B15C-46EC-85BC-215E570C4B42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937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78200" y="69048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24640" y="690480"/>
            <a:ext cx="17067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4670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78200" y="146196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23200" y="14605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2399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8200" y="224460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23200" y="2244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0132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8200" y="3013200"/>
            <a:ext cx="53654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23200" y="30132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7861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78200" y="378288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23200" y="37828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5594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78200" y="454644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23200" y="45496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3323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78200" y="532440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23200" y="5321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1056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78200" y="6093000"/>
            <a:ext cx="53654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23200" y="60847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0484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0484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0484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0484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0484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0484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0484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0484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1052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9400" y="0"/>
            <a:ext cx="53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24640" y="0"/>
            <a:ext cx="1706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7-14T09:54:29Z</dcterms:modified>
  <cp:revision>162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