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045-5627-4E38-B197-15B3AE64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57E-3A7C-4691-811E-0B384288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BD1-BF18-417A-9B37-91FE59CE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8CF-B749-4218-8230-2D6C627A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E22E-2619-4A2D-8F35-8328D6ED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4A7-AC3B-4527-B3BD-84759F6B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367-B72A-4F0C-8249-37BCB18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BE0-3861-4430-880F-A03431B0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72F-02A8-4462-989B-8CE82332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CBF-4FB2-4B99-98C6-7981B9B7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D37-457E-416D-BF83-22966FAB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7E1-ADCB-421D-AA16-98585732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E363-776B-4E04-9FC7-90A8B118D2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14:03:06Z</dcterms:created>
  <dc:creator>WYC</dc:creator>
  <dc:description/>
  <dc:language>en-US</dc:language>
  <cp:lastModifiedBy>WYC</cp:lastModifiedBy>
  <dcterms:modified xsi:type="dcterms:W3CDTF">2015-07-14T14:03:13Z</dcterms:modified>
  <cp:revision>1</cp:revision>
  <dc:subject/>
  <dc:title>幻灯片 1</dc:title>
</cp:coreProperties>
</file>