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BD9A-AC0E-4120-9045-5618CA238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DCDF-8FF4-4C20-A09D-E767461D3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E2DA-B877-4936-AC3E-A564FA86B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D2F8-7E54-4EE5-8406-6C5B6D5DA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602E-5037-49F2-8756-6FD38CE73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A7EB-4266-4FE9-ACCB-CDD436AF1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3C43-2AC9-44B3-A101-B21850C1E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DBE5-B56E-4B4C-AEDB-C19576126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5D43-1D1F-4715-A84A-F91317F4E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A6D1-1C67-4A82-BE19-6A45C4F5F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61B9-89C5-40C0-B9A9-F7C6F0C30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63EA-7997-49BF-A8E6-59E635E51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30259-B1EF-4306-8E12-7F71001884D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2T17:46:36Z</dcterms:created>
  <dc:creator>somebody</dc:creator>
  <dc:description/>
  <dc:language>en-US</dc:language>
  <cp:lastModifiedBy>somebody</cp:lastModifiedBy>
  <dcterms:modified xsi:type="dcterms:W3CDTF">2012-06-22T17:46:46Z</dcterms:modified>
  <cp:revision>1</cp:revision>
  <dc:subject/>
  <dc:title>幻灯片 1</dc:title>
</cp:coreProperties>
</file>