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77BD-E755-4CD6-BFBA-BA42AEFB5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918B-319F-4711-B404-09284192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0431-E795-4846-BBB7-09B3EBE12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96AB-DB79-4F30-86FC-40ECD3237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E545-E503-4885-89FE-9A0D20D9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F6BF-F379-4891-A5A3-30356BD7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AC11-A29C-46B8-B390-2CD0C1C9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8D97-AAF3-4D84-A944-027BC220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4B1E-EC66-4752-A850-7FA4F84B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9F5A-9A87-4528-A105-D77B47C7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330B-7AEC-439A-8D2B-5869AF60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48EC-4C1B-40C0-A8E6-D93ECEB4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E6AC-06E5-43D0-809F-0940FAC823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2T17:46:36Z</dcterms:created>
  <dc:creator>somebody</dc:creator>
  <dc:description/>
  <dc:language>en-US</dc:language>
  <cp:lastModifiedBy>somebody</cp:lastModifiedBy>
  <dcterms:modified xsi:type="dcterms:W3CDTF">2012-06-22T17:46:46Z</dcterms:modified>
  <cp:revision>1</cp:revision>
  <dc:subject/>
  <dc:title>幻灯片 1</dc:title>
</cp:coreProperties>
</file>