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62FF-84AC-4035-9AAB-DAE6CCA3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1DD8-1419-4ADF-9847-6EC442F1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9201-891C-4AE3-9EB6-89EE3212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F89-6186-41D7-B43D-D8D03DD3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E5D3-F882-4994-80F2-2F063C1E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030-5D41-4574-8F28-AE882BED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0E6C-EF93-42DE-BEA4-848F61BD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FDA-A7BE-467A-91D2-838754BD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7C15-C429-4786-9EB3-FC6486E5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06F-91C7-42DE-8256-79B48C92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E076-4F0E-4D30-B488-E291A78C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7436-F231-4B05-B3A5-3AD08F1E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252E-9C6D-4A60-9CA7-21283EB4A9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能找到潜在客户的平台和网站录入管理，数据共享，作为开发客户来源基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资料库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71440" cy="141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421000"/>
            <a:ext cx="33116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动全球搜索潜在客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90792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录入关键字，自动从全球网站搜索潜在客户邮件地址，网站，联系人信息，作为进一步开发客户基础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81320" y="1886040"/>
            <a:ext cx="5962680" cy="4971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637000"/>
            <a:ext cx="33116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天自动找寻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万个地址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上客人邮件地址来自 国外！！</a:t>
            </a:r>
            <a:br>
              <a:rPr sz="2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格式导入潜在客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9640" y="90792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您也可以将购买，或者历史客户资料编辑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档批量导入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637000"/>
            <a:ext cx="33116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秒导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万个，快捷方便！！</a:t>
            </a:r>
            <a:br>
              <a:rPr sz="2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48000" y="1887480"/>
            <a:ext cx="5472000" cy="4970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新客户资料完善及整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26920" y="836280"/>
            <a:ext cx="7632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搜索出的原始档案，经过打开网站等方式了解到客人的具体状况，并将了解到的信息进行整理 保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068640"/>
            <a:ext cx="33116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原始客户资料丰富完善起来，让开发更准确！！</a:t>
            </a:r>
            <a:br>
              <a:rPr sz="2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76720" y="1773360"/>
            <a:ext cx="9677160" cy="5410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91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完整开发技巧和话术支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26920" y="836280"/>
            <a:ext cx="7632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业务员参考有技巧性的销售话术和模板，自动崁入邮件，快捷更专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068640"/>
            <a:ext cx="33116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让新手也能知道如何做外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！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76720" y="1773360"/>
            <a:ext cx="9677160" cy="5410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606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智能群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大大提高开发效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26920" y="836280"/>
            <a:ext cx="7632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对一群发，自动称谓，主题和收件人，精准高效智能群发，大大提高工作效率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068640"/>
            <a:ext cx="33116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天能发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万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相当于请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个业务员！！</a:t>
            </a:r>
            <a:br>
              <a:rPr sz="2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8315280" cy="570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606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09:29:30Z</dcterms:created>
  <dc:creator>USER</dc:creator>
  <dc:description/>
  <dc:language>en-US</dc:language>
  <cp:lastModifiedBy>USER</cp:lastModifiedBy>
  <dcterms:modified xsi:type="dcterms:W3CDTF">2011-03-18T14:43:21Z</dcterms:modified>
  <cp:revision>284</cp:revision>
  <dc:subject/>
  <dc:title>幻灯片 1</dc:title>
</cp:coreProperties>
</file>