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6054-15D6-4FEB-85C4-0B93E359E7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3FE-8C0A-495D-852F-EE1E678C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84A-3436-4313-9E90-3DD500A4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C5E-3D1C-4044-86EC-08100F80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010-DC8B-409C-90A8-FB0B6A82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ABA-1536-430D-A7F1-83E8D219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976-60D5-4BB5-BF5D-F85A4536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078-A821-45D2-B85B-EBF5C0B8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E9B-5FB8-425D-A46E-6B88D4AF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ADE-1C5D-4B44-B8C3-3AADEE4E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F5E-5E72-4B3F-B644-9106BF68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E70-4C8A-4773-9AC0-4200A04A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D95-0591-4D2A-89EF-DE49C289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3D55-356D-469A-8538-0990B0320276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2018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•决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</cp:lastModifiedBy>
  <dcterms:modified xsi:type="dcterms:W3CDTF">2018-08-28T09:28:10Z</dcterms:modified>
  <cp:revision>21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