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2727-D607-41D9-A8EB-34189CE9479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2FA0-EE06-4618-BCD5-8090630B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FE39-0954-41E0-A649-5BC3EF98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19EE-FF96-4A28-9BF1-39B6E0935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0FF0-CD38-4488-9196-0CC39FD88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7266-99BF-4ADA-BF3D-135208B9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AC7D-BB41-4967-AEA3-B42FA217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B179-D44F-46A9-BC67-BB49EDA1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5BB2-6FD8-47CC-8162-228D8717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1D8A-E688-4F59-A90A-D233EF4E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CE5A-C0EA-4DCC-8702-85D11EF3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F7B2-2F9B-4A9A-841B-096A7B51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80E5-44D7-4618-8A6B-11B594C4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70F7-EC9B-40B5-9A55-149D72167B1B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590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</a:rPr>
              <a:t>赞助单位</a:t>
            </a:r>
            <a:endParaRPr b="0" lang="en-US" sz="60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1438200"/>
            <a:ext cx="8062920" cy="35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航天科技集团公司第六研究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航天科技集团公司行易软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西安和谐网络科技有限责任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西安祺创太阳能科技有限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陕西神光新能源科技有限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西安航天远征流体控制股份有限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1438200"/>
            <a:ext cx="86108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陕西铭越信息科技有限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西安航天华阳印刷包装设备有限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航天科技集团公司第四研究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航天科技集团公司第五研究院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504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兵器工业集团公司第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206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研究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陕西天惠科技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集团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3:22Z</dcterms:modified>
  <cp:revision>33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