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3A0EA-7A9F-4275-8F96-E0271B356B2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7B56-E3B5-4A51-895B-AB8A08233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6128-868A-4B90-A144-9C60162F0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AC96-43F3-4401-B483-4870B1196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5704-5357-48BE-8438-9ED5C26CB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D724-2E75-43F1-871B-8763BD516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6260-E497-4853-A61B-2D8DBD140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7957-57C8-4422-BBCC-C6895BBA4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3288-4361-4DDC-9CF6-4F3BE8A17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7F2B-FC2A-40D1-BD9E-E397D67C8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F0F4-5977-4A96-B55B-74B03E7E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11F8-C372-48AD-88AE-B17A3A43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4BEE-B8D5-42C7-AA70-F3CC0259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36FBC-E06D-48E1-ACCF-8E6925F606A3}" type="slidenum"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517480"/>
            <a:ext cx="9144000" cy="1439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</a:rPr>
              <a:t>国家旅游局副局长杜江致辞 </a:t>
            </a:r>
            <a:endParaRPr b="0" lang="en-US" sz="48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517840"/>
            <a:ext cx="9144000" cy="1439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陕西省副省长景俊海致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4-08-15T06:03:38Z</dcterms:modified>
  <cp:revision>18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