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8226-1875-4D57-A056-4F16587F3F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51E-47D7-42DD-A0BF-55EE05EB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C55-BC4D-486B-B89B-CBFDC6A3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032-DF3C-4749-8D4D-7ED96EF1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8B8-C4D0-420C-81EE-3483A22F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15F-AB39-4293-AD84-6D0F9111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6E6-696D-4C61-B4F4-C3B5ECFD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E52-4B7E-452B-8F6F-4DE4D6AD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EE5-4DAA-46E7-ADF2-73268F7A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EB9-19B8-48A6-BA7E-ABC25FDA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F4C-7A0B-42C9-A99F-96952F64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FF3-B96D-40C8-82EF-B8A4AB2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FBC-D335-420C-969A-4A44A0A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4BD5-A26D-401D-BE28-94DE1B6D0E76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8560" y="719280"/>
            <a:ext cx="7093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开根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谐网络科技公司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何惠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航天大学计算机系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建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行易软件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评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720720" y="0"/>
            <a:ext cx="14414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简勇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易艳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黄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大学科技部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监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-324000" y="38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54Z</dcterms:modified>
  <cp:revision>1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