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698A-6228-411A-9663-8B2D09C4241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要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44A-20BC-4B7D-A072-3F366588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418F-8487-43E8-A916-8D2AAA7A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CE6-BD2A-4820-B1C6-E68082FA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F1D2-E4E2-49BC-BBC8-FA700692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ACD-5A03-46D4-92F2-D184A740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DF21-78EA-48DF-AC39-718192CA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7DD-50B6-44C3-A482-4FB0B4A6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CBF8-307A-49C3-A96A-33B18112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CCBA-C6F3-46BF-9435-AABAA62A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82B-58B8-4E7A-B653-C9336801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0D2-D210-49A8-9C02-DBD64B8F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341-99A2-4A74-9335-366A411B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BFA9-5E7B-4999-82A9-1223758333BF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6360" y="690480"/>
            <a:ext cx="41450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65840" y="14605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65840" y="224460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3133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5840" y="3013200"/>
            <a:ext cx="41781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5840" y="37828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65840" y="45496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5840" y="532116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3132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65840" y="60847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8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15080" y="0"/>
            <a:ext cx="447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44:18Z</dcterms:modified>
  <cp:revision>16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