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99418-E0FF-4668-943E-BE290BA2A9A3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一般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启动时的画面过渡使用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为抽签仪式活动主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随意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信息及抽签滚动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此模板不展示选手照片，所以照片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32000" cy="2344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277164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32000" cy="2344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2771640" cy="2565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1341360"/>
            <a:ext cx="9144000" cy="3527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黑体"/>
              </a:rPr>
              <a:t>2010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全国导游大赛决赛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抽签仪式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3060720" y="333360"/>
            <a:ext cx="2016000" cy="295128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763640" y="475920"/>
            <a:ext cx="194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编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"/>
          <p:cNvSpPr/>
          <p:nvPr/>
        </p:nvSpPr>
        <p:spPr>
          <a:xfrm>
            <a:off x="3851280" y="476280"/>
            <a:ext cx="3674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1773360"/>
            <a:ext cx="6516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620360" y="2349360"/>
            <a:ext cx="280836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3565440" y="4581360"/>
            <a:ext cx="3241440" cy="115272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4390920"/>
            <a:ext cx="9144000" cy="24228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9600" spc="-1" strike="noStrike">
                <a:solidFill>
                  <a:srgbClr val="ffffff"/>
                </a:solidFill>
                <a:latin typeface="Arial"/>
                <a:ea typeface="黑体"/>
              </a:rPr>
              <a:t>抽签号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620360" y="3933720"/>
            <a:ext cx="3492360" cy="865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自己文字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117080" y="-78264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</cp:lastModifiedBy>
  <dcterms:modified xsi:type="dcterms:W3CDTF">2013-06-30T02:57:59Z</dcterms:modified>
  <cp:revision>526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26137008</vt:r8>
  </property>
  <property fmtid="{D5CDD505-2E9C-101B-9397-08002B2CF9AE}" pid="3" name="_ReviewingToolsShownOnce">
    <vt:lpwstr/>
  </property>
  <property fmtid="{D5CDD505-2E9C-101B-9397-08002B2CF9AE}" pid="4" name="_TemplateID">
    <vt:lpwstr>TC100690501033</vt:lpwstr>
  </property>
</Properties>
</file>