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W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6E6C-085C-4BC2-A009-EE2F9F4A09E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评委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评委信息展示幻灯。里面的文本框及图片框不能删除，但可以随意拖动。此模板展示评委照片，所以照片框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A95A-76F0-4FA7-B1CC-DCA0219AD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5F9A-6618-4118-AA0C-338CD45E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DBDB-3EED-49D9-B7D8-7B4A3634A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B78F-E09C-4BD9-842A-744211A7C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5CAB-AE64-4D8B-A033-C5D40CE5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5F44-E91C-43B7-9AFA-F7E9E2DE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370B-89C8-4E73-8AAA-C726179D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BBAA-7F02-4374-A363-BBB188D6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1C16-308A-4566-8639-FB572B68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2A75-44C7-42C3-9D9C-006DA735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20AA-85A2-414F-92A6-19B039CF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A96E-93DC-40DA-B711-EBC723AF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3736-ADCE-4ADF-BA58-2BCC14BCA362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专家评委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692280"/>
            <a:ext cx="2089080" cy="266364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692280"/>
            <a:ext cx="49687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评委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3716280"/>
            <a:ext cx="720072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评委描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28T11:16:22Z</dcterms:modified>
  <cp:revision>11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