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1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  <p:custShow name="RemarkShow" id="7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DE6D-D0B6-43ED-9184-F753BBD1F5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评委评语幻灯，有四个评语文本框，四个文本框的动画自己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以删除动画。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可以增加元素，但不能删除固有的元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修改图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幻灯中的元素可以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不能使用层命令。可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八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333080" y="5300640"/>
            <a:ext cx="5689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65440" y="5373720"/>
            <a:ext cx="6264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加权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定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03640" y="5157720"/>
            <a:ext cx="4572000" cy="935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7237440" y="-115236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xxx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157720"/>
            <a:ext cx="3020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677440" y="1268280"/>
            <a:ext cx="19226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1:111  PW02:2222  PW03:3333  PW04:444444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8605800" y="2492280"/>
            <a:ext cx="189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5:555  PW06:666 PW07:777 PW08:888  PW08:8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8677440" y="3716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09:999  PW10:1010  PW11:1111  PW12:12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677440" y="4940280"/>
            <a:ext cx="19010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W13:1313 PW14:14   PW15:1515  PW16:16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03280" cy="6858000"/>
          </a:xfrm>
          <a:prstGeom prst="rect">
            <a:avLst/>
          </a:prstGeom>
          <a:solidFill>
            <a:srgbClr val="00008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专 家 评 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655640" y="-2332080"/>
            <a:ext cx="1655640" cy="18003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-2043000"/>
            <a:ext cx="1800360" cy="1125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-2017800"/>
            <a:ext cx="3241440" cy="1125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8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8-12-29T02:14:28Z</dcterms:modified>
  <cp:revision>730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