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1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  <p:custShow name="RemarkShow" id="7">
      <p:sldLst>
        <p:sld r:id="rId1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D180-8ED7-499C-93DE-4BE065BC6AD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所有项目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个项目得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评委评语幻灯，有四个评语文本框，四个文本框的动画自己可以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也可以删除动画。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框拖到可视界面之外。文字、颜色、形状、大小、布局可调整修改。可以增加元素，但不能删除固有的元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修改图层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幻灯中的元素可以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不能使用层命令。可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八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6364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37120" y="836640"/>
            <a:ext cx="381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9892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37120" y="90792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1124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1124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14480" y="2421000"/>
            <a:ext cx="79236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14480" y="3500280"/>
            <a:ext cx="792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2276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2276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27440" y="2421000"/>
            <a:ext cx="79236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27440" y="3500280"/>
            <a:ext cx="792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30680" y="2421000"/>
            <a:ext cx="79236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30680" y="3500280"/>
            <a:ext cx="792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3572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3572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38960" y="2421000"/>
            <a:ext cx="79236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38960" y="3500280"/>
            <a:ext cx="792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4400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4400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61236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61236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691640" y="44280"/>
            <a:ext cx="100836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91640" y="141300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77308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77308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85236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85236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9334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9334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974920" y="4608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9749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5520" y="-2187720"/>
            <a:ext cx="1150920" cy="4636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3340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-218772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7332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03560" y="-218772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1180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41680" y="-218772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5136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81600" y="-218772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128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21520" y="-218772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549080" y="2421000"/>
            <a:ext cx="496872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510080"/>
            <a:ext cx="9144000" cy="863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7245360"/>
            <a:ext cx="504180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5734080"/>
            <a:ext cx="5867280" cy="719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684360" y="7966080"/>
            <a:ext cx="313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805360"/>
            <a:ext cx="3132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6364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63640" y="404640"/>
            <a:ext cx="1297080" cy="158292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76500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83664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27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615600" y="227664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61236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444720" y="5373720"/>
            <a:ext cx="7201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定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544500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08360" y="-4564080"/>
            <a:ext cx="489600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xxx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0" y="-420372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445000"/>
            <a:ext cx="35989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2916360" y="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7597800" y="458136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7597800" y="685800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5581800" y="404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-8677440" y="1268280"/>
            <a:ext cx="19226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01:111  PW02:2222  PW03:3333  PW04:444444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-8605800" y="2492280"/>
            <a:ext cx="18938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05:555  PW06:666 PW07:777 PW08:888  PW08:88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-8677440" y="3716280"/>
            <a:ext cx="19010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09:999  PW10:1010  PW11:1111  PW12:12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8677440" y="4940280"/>
            <a:ext cx="19010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13:1313 PW14:14   PW15:1515  PW16:16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1403280" cy="6858000"/>
          </a:xfrm>
          <a:prstGeom prst="rect">
            <a:avLst/>
          </a:prstGeom>
          <a:solidFill>
            <a:srgbClr val="000080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专 家 评 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-1655640" y="-2332080"/>
            <a:ext cx="1655640" cy="1800360"/>
          </a:xfrm>
          <a:prstGeom prst="rect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-2043000"/>
            <a:ext cx="1800360" cy="11253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10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698920" y="-2017800"/>
            <a:ext cx="3241440" cy="112572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8-12-29T02:01:14Z</dcterms:modified>
  <cp:revision>693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