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  <p:custShowLst>
    <p:custShow name="BlankShow" id="0">
      <p:sldLst>
        <p:sld r:id="rId4"/>
      </p:sldLst>
    </p:custShow>
    <p:custShow name="ThemeShow" id="1">
      <p:sldLst>
        <p:sld r:id="rId11"/>
      </p:sldLst>
    </p:custShow>
    <p:custShow name="InfoShow" id="2">
      <p:sldLst>
        <p:sld r:id="rId5"/>
      </p:sldLst>
    </p:custShow>
    <p:custShow name="ScoreShow" id="3">
      <p:sldLst>
        <p:sld r:id="rId6"/>
      </p:sldLst>
    </p:custShow>
    <p:custShow name="ResultShow" id="4">
      <p:sldLst>
        <p:sld r:id="rId7"/>
      </p:sldLst>
    </p:custShow>
    <p:custShow name="DResultShow" id="5">
      <p:sldLst>
        <p:sld r:id="rId8"/>
      </p:sldLst>
    </p:custShow>
    <p:custShow name="ItemShow" id="6">
      <p:sldLst>
        <p:sld r:id="rId10"/>
      </p:sldLst>
    </p:custShow>
    <p:custShow name="RemarkShow" id="7">
      <p:sldLst>
        <p:sld r:id="rId10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0EDA5-2D28-4776-973C-05648D59CDC0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一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空白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，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一般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启动过渡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通过它可以有效地防止某些情况下界面刷新问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。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二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选手信息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的文本框及图片框不能删除，但可以随意拖动。假设不展示选手照片，可以把照片框拖到可视界面之外。文字、颜色、形状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项名和附加名用户可以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受软件系统影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随意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确实需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联系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给以指导或自己学习一下帮助文档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动手修改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三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评委打分信息等信息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所有文本框及图片框不能删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但可以随意拖动。可以把多余的评委照片框及打分框拖到可视界面之外。文字、颜色、形状、大小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项名和附加名用户可以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受软件系统影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随意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确实需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联系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给以指导或自己学习一下帮助文档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动手修改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四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选手最后得分信息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的文本框及图片框不能删除，但可以随意拖动。假设不展示选手照片，可以把照片框拖到可视界面之外。文字、颜色、形状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项名和附加名用户可以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受软件系统影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随意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确实需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联系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给以指导或自己学习一下帮助文档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动手修改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五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所有项目得分信息等信息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所有文本框及图片框不能删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但可以随意拖动。可以把多余的评委照片框及打分框拖到可视界面之外。文字、颜色、形状、大小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项名和附加名用户可以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受软件系统影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随意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确实需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联系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给以指导或自己学习一下帮助文档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动手修改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六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每项得分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所有文本框及图片框不能删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但可以随意拖动。可以把多余的评委照片框及打分框拖到可视界面之外。文字、颜色、形状、大小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项名和附加名用户可以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受软件系统影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随意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确实需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联系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给以指导或自己学习一下帮助文档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动手修改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七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为评委评语幻灯，有四个评语文本框，四个文本框的动画自己可以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也可以删除动画。里面所有文本框及图片框不能删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但可以随意拖动。可以把多余的框拖到可视界面之外。文字、颜色、形状、大小、布局可调整修改。可以增加元素，但不能删除固有的元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修改图层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。幻灯中的元素可以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但不能使用层命令。可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特殊问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和我方技术人员沟通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方可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八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为活动主题幻灯，可以随意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。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特殊问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和我方技术人员沟通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方可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-976320" y="-316080"/>
            <a:ext cx="1952640" cy="21765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758000" y="5084640"/>
            <a:ext cx="2772000" cy="256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42560" y="549000"/>
            <a:ext cx="2266920" cy="2879640"/>
          </a:xfrm>
          <a:prstGeom prst="rect">
            <a:avLst/>
          </a:prstGeom>
          <a:solidFill>
            <a:srgbClr val="0000ff"/>
          </a:solidFill>
          <a:ln w="28440">
            <a:solidFill>
              <a:srgbClr val="e51303"/>
            </a:solidFill>
            <a:miter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0" lang="zh-CN" sz="4400" spc="-1" strike="noStrike">
                <a:solidFill>
                  <a:srgbClr val="ffffff"/>
                </a:solidFill>
                <a:latin typeface="Garamond"/>
              </a:rPr>
              <a:t>照片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348000" y="898560"/>
            <a:ext cx="17287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号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" name=""/>
          <p:cNvSpPr/>
          <p:nvPr/>
        </p:nvSpPr>
        <p:spPr>
          <a:xfrm>
            <a:off x="5003640" y="836640"/>
            <a:ext cx="3600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选手名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348000" y="1916280"/>
            <a:ext cx="54007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所属单位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468000" y="1989000"/>
            <a:ext cx="2808000" cy="10810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领队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76720" y="-3195720"/>
            <a:ext cx="3421080" cy="10810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内容类别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34920" y="3933720"/>
            <a:ext cx="7272360" cy="151128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7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参赛内容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740720" y="-2692440"/>
            <a:ext cx="1908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8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选手类别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11280" y="0"/>
            <a:ext cx="1296720" cy="120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798560" y="179280"/>
            <a:ext cx="1008000" cy="1295640"/>
          </a:xfrm>
          <a:prstGeom prst="rect">
            <a:avLst/>
          </a:prstGeom>
          <a:solidFill>
            <a:srgbClr val="0000ff"/>
          </a:solidFill>
          <a:ln w="28440">
            <a:solidFill>
              <a:srgbClr val="e513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1303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e51303"/>
                </a:solidFill>
                <a:latin typeface="黑体"/>
                <a:ea typeface="黑体"/>
              </a:rPr>
              <a:t>照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03640" y="476280"/>
            <a:ext cx="14396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27640" y="476280"/>
            <a:ext cx="41068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名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25480" y="1773360"/>
            <a:ext cx="100800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4-01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25480" y="314172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05120" y="1773360"/>
            <a:ext cx="100800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6-02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905120" y="314172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986200" y="1773360"/>
            <a:ext cx="100800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8-03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986200" y="314172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067280" y="1773360"/>
            <a:ext cx="100800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10-04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065480" y="314172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46560" y="1773360"/>
            <a:ext cx="100800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12-05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6560" y="3141720"/>
            <a:ext cx="1009800" cy="50328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1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227640" y="1773360"/>
            <a:ext cx="100836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14-6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27640" y="3141720"/>
            <a:ext cx="1008360" cy="50328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308720" y="1773360"/>
            <a:ext cx="100836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16-07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308720" y="3141720"/>
            <a:ext cx="1008360" cy="50328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1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25480" y="3789360"/>
            <a:ext cx="100800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18-08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25480" y="515772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1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903320" y="3789360"/>
            <a:ext cx="100800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20-09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03320" y="515772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82960" y="3789360"/>
            <a:ext cx="100800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22-10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982960" y="515772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064040" y="3789360"/>
            <a:ext cx="100800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24-11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064040" y="515772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145120" y="3789360"/>
            <a:ext cx="100800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26-12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145120" y="515772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224760" y="3789360"/>
            <a:ext cx="100800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28-13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224760" y="515772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305840" y="3789360"/>
            <a:ext cx="100800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30-14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305840" y="515772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3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2996720" y="-2619360"/>
            <a:ext cx="100836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32-15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2996720" y="-1251000"/>
            <a:ext cx="100836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3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4149440" y="-2619360"/>
            <a:ext cx="100800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34-16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4149440" y="-1251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3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 rot="6180000">
            <a:off x="-784080" y="3389040"/>
            <a:ext cx="540000" cy="36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30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cc00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cc00"/>
              </a:solidFill>
              <a:latin typeface="Arial Black"/>
              <a:ea typeface="Arial Black"/>
            </a:endParaRPr>
          </a:p>
        </p:txBody>
      </p:sp>
      <p:sp>
        <p:nvSpPr>
          <p:cNvPr id="93" name=""/>
          <p:cNvSpPr txBox="1"/>
          <p:nvPr/>
        </p:nvSpPr>
        <p:spPr>
          <a:xfrm rot="6180000">
            <a:off x="-207720" y="3389040"/>
            <a:ext cx="540000" cy="36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30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cc00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cc00"/>
              </a:solidFill>
              <a:latin typeface="Arial Black"/>
              <a:ea typeface="Arial Black"/>
            </a:endParaRPr>
          </a:p>
        </p:txBody>
      </p:sp>
      <p:sp>
        <p:nvSpPr>
          <p:cNvPr id="94" name=""/>
          <p:cNvSpPr txBox="1"/>
          <p:nvPr/>
        </p:nvSpPr>
        <p:spPr>
          <a:xfrm rot="6181200">
            <a:off x="9656640" y="3279960"/>
            <a:ext cx="539640" cy="36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30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</p:txBody>
      </p:sp>
      <p:sp>
        <p:nvSpPr>
          <p:cNvPr id="95" name=""/>
          <p:cNvSpPr txBox="1"/>
          <p:nvPr/>
        </p:nvSpPr>
        <p:spPr>
          <a:xfrm rot="6180000">
            <a:off x="10160280" y="3279960"/>
            <a:ext cx="539640" cy="36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30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</p:txBody>
      </p:sp>
      <p:sp>
        <p:nvSpPr>
          <p:cNvPr id="96" name=""/>
          <p:cNvSpPr/>
          <p:nvPr/>
        </p:nvSpPr>
        <p:spPr>
          <a:xfrm>
            <a:off x="612720" y="-1324080"/>
            <a:ext cx="1150920" cy="43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9880" y="-1900080"/>
            <a:ext cx="1150920" cy="46332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41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51200" y="-1324080"/>
            <a:ext cx="1150920" cy="43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908000" y="-1900080"/>
            <a:ext cx="1151280" cy="4600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43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90760" y="-1324080"/>
            <a:ext cx="1150920" cy="43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47920" y="-1900080"/>
            <a:ext cx="1150920" cy="4600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45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29240" y="-1324080"/>
            <a:ext cx="1150920" cy="43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86400" y="-1900080"/>
            <a:ext cx="1150920" cy="4600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47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969160" y="-1324080"/>
            <a:ext cx="1150920" cy="43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925960" y="-1900080"/>
            <a:ext cx="1151280" cy="4600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49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08720" y="-1324080"/>
            <a:ext cx="1150920" cy="43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265880" y="-1900080"/>
            <a:ext cx="1150920" cy="4600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51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612360" y="2421000"/>
            <a:ext cx="4968720" cy="1008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内容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469440" y="4365720"/>
            <a:ext cx="7343640" cy="863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参赛内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708360" y="5921280"/>
            <a:ext cx="3168720" cy="60336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4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主项得分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-1476360" y="7101000"/>
            <a:ext cx="5040360" cy="100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5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主项得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9540720" y="5445000"/>
            <a:ext cx="5148360" cy="100836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6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540720" y="6742080"/>
            <a:ext cx="5185080" cy="100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7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分数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540720" y="7893000"/>
            <a:ext cx="5185080" cy="100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8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名次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-5581800" y="1916280"/>
            <a:ext cx="41068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9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19280" y="5805360"/>
            <a:ext cx="3132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演唱得分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42560" y="549000"/>
            <a:ext cx="2266920" cy="2879640"/>
          </a:xfrm>
          <a:prstGeom prst="rect">
            <a:avLst/>
          </a:prstGeom>
          <a:solidFill>
            <a:srgbClr val="0000ff"/>
          </a:solidFill>
          <a:ln w="76320">
            <a:solidFill>
              <a:srgbClr val="800000"/>
            </a:solidFill>
            <a:miter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r>
              <a:rPr b="0" lang="zh-CN" sz="4400" spc="-1" strike="noStrike">
                <a:solidFill>
                  <a:srgbClr val="ffffff"/>
                </a:solidFill>
                <a:latin typeface="Arial Black"/>
                <a:ea typeface="黑体"/>
              </a:rPr>
              <a:t>照片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598560" y="1700280"/>
            <a:ext cx="14396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 fontScale="95000"/>
          </a:bodyPr>
          <a:p>
            <a:pPr marL="32580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号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5037120" y="1628640"/>
            <a:ext cx="41068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选手名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685440" y="0"/>
            <a:ext cx="3168720" cy="10810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所属单位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685440" y="1268280"/>
            <a:ext cx="3166920" cy="10810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领队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781360" y="-1684440"/>
            <a:ext cx="3581280" cy="8384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内容类别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-4645080" y="2637000"/>
            <a:ext cx="3889440" cy="107928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7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参赛内容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-1836720" y="7174080"/>
            <a:ext cx="5005440" cy="108108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8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主项得分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未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-1836720" y="8397720"/>
            <a:ext cx="5040360" cy="107964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9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主项得分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已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685440" y="2492280"/>
            <a:ext cx="6191280" cy="107964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合计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685440" y="3716280"/>
            <a:ext cx="6191280" cy="107964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1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合计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635280" y="7174080"/>
            <a:ext cx="5757840" cy="107928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12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最后得分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未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86160" y="3789360"/>
            <a:ext cx="5757840" cy="107964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3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756720" y="530064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4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超时扣分提示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612360" y="6318360"/>
            <a:ext cx="3097080" cy="107928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5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名次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144000" y="-2403360"/>
            <a:ext cx="22683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16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选手类别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3933720"/>
            <a:ext cx="352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24000" y="0"/>
            <a:ext cx="1692000" cy="156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763640" y="333360"/>
            <a:ext cx="1297080" cy="1582920"/>
          </a:xfrm>
          <a:prstGeom prst="rect">
            <a:avLst/>
          </a:prstGeom>
          <a:solidFill>
            <a:srgbClr val="0000ff"/>
          </a:solidFill>
          <a:ln w="28440">
            <a:solidFill>
              <a:srgbClr val="e513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照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348000" y="765000"/>
            <a:ext cx="1008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0" y="836640"/>
            <a:ext cx="28083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名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-36360" y="-1251000"/>
            <a:ext cx="287964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所属单位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083040" y="-1251000"/>
            <a:ext cx="172872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领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051520" y="-1251000"/>
            <a:ext cx="259236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内容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883640" y="-1251000"/>
            <a:ext cx="2520720" cy="900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7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参赛内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95280" y="2278080"/>
            <a:ext cx="2232000" cy="16556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8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主项名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528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564000" y="2278080"/>
            <a:ext cx="2232000" cy="16556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6400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1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588000" y="2278080"/>
            <a:ext cx="2232000" cy="16556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2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66108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1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056360" y="260280"/>
            <a:ext cx="1692360" cy="57636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4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64360" y="907920"/>
            <a:ext cx="1584360" cy="50508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华文新魏"/>
              </a:rPr>
              <a:t>1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1988720" y="2278080"/>
            <a:ext cx="2232000" cy="17492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6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98872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17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293800" y="2278080"/>
            <a:ext cx="2232000" cy="17492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8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429380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1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6597440" y="2278080"/>
            <a:ext cx="2232000" cy="17492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0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659744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2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-5006880" y="5300640"/>
            <a:ext cx="4825800" cy="79236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/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主项得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-828720" y="7101000"/>
            <a:ext cx="432108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3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1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266920" y="8109000"/>
            <a:ext cx="460872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4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724360" y="7101000"/>
            <a:ext cx="453708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5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67640" y="8109000"/>
            <a:ext cx="540072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6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4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0836360" y="7101000"/>
            <a:ext cx="504036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7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3789080" y="8109000"/>
            <a:ext cx="532764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8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6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468000" y="5300640"/>
            <a:ext cx="5759280" cy="115272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9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合计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5444720" y="5373720"/>
            <a:ext cx="7201080" cy="100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0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合计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加权定制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-2557440" y="-3267000"/>
            <a:ext cx="511344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1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分值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276720" y="5445000"/>
            <a:ext cx="5111640" cy="79236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分值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564000" y="-4059360"/>
            <a:ext cx="4895640" cy="115272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3xxxx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0260000" y="-2763720"/>
            <a:ext cx="2160720" cy="100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4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名次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-684360" y="9909000"/>
            <a:ext cx="28083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5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81080" y="5373720"/>
            <a:ext cx="35989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-2197080" y="0"/>
            <a:ext cx="1692360" cy="156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798560" y="179280"/>
            <a:ext cx="1511280" cy="1943280"/>
          </a:xfrm>
          <a:prstGeom prst="rect">
            <a:avLst/>
          </a:prstGeom>
          <a:solidFill>
            <a:srgbClr val="0000ff"/>
          </a:solidFill>
          <a:ln w="28440">
            <a:solidFill>
              <a:srgbClr val="e513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照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598920" y="898560"/>
            <a:ext cx="1008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933800" y="906480"/>
            <a:ext cx="36021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名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-515880" y="-2475000"/>
            <a:ext cx="2879640" cy="90036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所属单位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603520" y="-2475000"/>
            <a:ext cx="1728720" cy="90036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领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-1297080" y="-3700440"/>
            <a:ext cx="259236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内容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404120" y="-2475000"/>
            <a:ext cx="2521080" cy="9003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7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参赛内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19640" y="2637000"/>
            <a:ext cx="2232000" cy="151128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8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456000" y="4581360"/>
            <a:ext cx="2232000" cy="64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隶书"/>
              </a:rPr>
              <a:t>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-7597800" y="4581360"/>
            <a:ext cx="4753080" cy="1224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19280" y="-3627360"/>
            <a:ext cx="2016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11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选手类别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-5581800" y="404640"/>
            <a:ext cx="1692360" cy="156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-8677440" y="1268280"/>
            <a:ext cx="192265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Pw01:111  PW02:2222  PW03:3333  PW04:4444444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-8605800" y="2492280"/>
            <a:ext cx="189388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PW05:555  PW06:666 PW07:777 PW08:888  PW08:888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-8677440" y="3716280"/>
            <a:ext cx="190105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PW09:999  PW10:1010  PW11:1111  PW12:121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-8677440" y="4940280"/>
            <a:ext cx="190105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PW13:1313 PW14:14   PW15:1515  PW16:16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0"/>
            <a:ext cx="1403280" cy="6858000"/>
          </a:xfrm>
          <a:prstGeom prst="rect">
            <a:avLst/>
          </a:prstGeom>
          <a:solidFill>
            <a:srgbClr val="000080"/>
          </a:solidFill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专 家 评 语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-1655640" y="-2332080"/>
            <a:ext cx="1655640" cy="1800360"/>
          </a:xfrm>
          <a:prstGeom prst="rect">
            <a:avLst/>
          </a:prstGeom>
          <a:solidFill>
            <a:srgbClr val="0000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95280" y="-2043000"/>
            <a:ext cx="1800360" cy="112536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黑体"/>
              </a:rPr>
              <a:t>10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698920" y="-2017800"/>
            <a:ext cx="3241440" cy="112572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选手名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7956720" y="5526000"/>
            <a:ext cx="1439640" cy="13320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0" y="260280"/>
            <a:ext cx="1550880" cy="162900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0" y="1341360"/>
            <a:ext cx="9144000" cy="230364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>
                  <a:alpha val="0"/>
                </a:srgbClr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  <a:ea typeface="黑体"/>
              </a:rPr>
              <a:t>2010</a:t>
            </a: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全国导游大赛决赛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422100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国家旅游局、共青团中央、全国妇联联合承办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5:16:28Z</dcterms:created>
  <dc:creator>行易软件 http://www.ExeSoft.cn</dc:creator>
  <dc:description/>
  <cp:keywords/>
  <dc:language>en-US</dc:language>
  <cp:lastModifiedBy>行易软件</cp:lastModifiedBy>
  <dcterms:modified xsi:type="dcterms:W3CDTF">2018-12-29T02:16:05Z</dcterms:modified>
  <cp:revision>688</cp:revision>
  <dc:subject/>
  <dc:title>评委打分主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501033</vt:lpwstr>
  </property>
</Properties>
</file>