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1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  <p:custShow name="RemarkShow" id="7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6960-5597-4968-B528-A370FD37899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评委评语幻灯，有四个评语文本框，四个文本框的动画自己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可以删除动画。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框拖到可视界面之外。文字、颜色、形状、大小、布局可调整修改。可以增加元素，但不能删除固有的元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修改图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幻灯中的元素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不能使用层命令。可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74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378936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780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780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287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287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0840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0840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8948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8948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498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498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092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09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1200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1200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49440" y="-261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49440" y="-1251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708360" y="5013360"/>
            <a:ext cx="31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44720" y="5373720"/>
            <a:ext cx="7201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定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-3267000"/>
            <a:ext cx="489564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xxx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8677440" y="1268280"/>
            <a:ext cx="19226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1:111  PW02:2222  PW03:3333  PW04:444444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8605800" y="2492280"/>
            <a:ext cx="18938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5:555  PW06:666 PW07:777 PW08:888  PW08:8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8677440" y="3716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9:999  PW10:1010  PW11:1111  PW12:12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8677440" y="4940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13:1313 PW14:14   PW15:1515  PW16:16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00008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专 家 评 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655640" y="-2332080"/>
            <a:ext cx="1655640" cy="180036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-2043000"/>
            <a:ext cx="1800360" cy="11253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98920" y="-2017800"/>
            <a:ext cx="3241440" cy="1125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8-12-29T02:03:12Z</dcterms:modified>
  <cp:revision>672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