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4871-9E3C-46D0-A983-1EEC35E642B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, ShowDetailScroll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61-80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61-80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R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59B6-0CBC-4F54-955D-55DD9C224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1434-6577-4C4E-801D-79DF9592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B59D-C145-4C6B-915C-658B57246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F414-FEB4-47FE-B751-F1314DFA8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88FB-3A1D-4DCE-AD06-7C12F73D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A066-CD1C-424A-BE6B-27A1D48D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DE9B-E046-4115-BED2-A185FDDA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A562-26AB-4031-92A1-4D845495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3935-0A2F-496A-A988-70EE5703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5603-FA6C-4008-9C9E-8665E367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4FDC-F2AE-41B4-8914-0ED25C96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7AA1-4621-4093-81DD-C4CBBCC5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1817-9684-4FF6-93A6-F89A17F39363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63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704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7240" y="693720"/>
            <a:ext cx="1008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04840" y="69048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67760" y="690480"/>
            <a:ext cx="1706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240" y="1467000"/>
            <a:ext cx="1008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04840" y="1461960"/>
            <a:ext cx="621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65960" y="14605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240" y="2239920"/>
            <a:ext cx="1008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04840" y="224460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65960" y="224460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240" y="3013200"/>
            <a:ext cx="1008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04840" y="3013200"/>
            <a:ext cx="6211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65960" y="30132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240" y="3786120"/>
            <a:ext cx="1008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04840" y="378288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65960" y="37828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240" y="4559400"/>
            <a:ext cx="1008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04840" y="4546440"/>
            <a:ext cx="621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65960" y="45496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0" y="5332320"/>
            <a:ext cx="1008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04840" y="5324400"/>
            <a:ext cx="621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65960" y="5321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240" y="6105600"/>
            <a:ext cx="1008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04840" y="6093000"/>
            <a:ext cx="621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65960" y="60847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-52560" y="7958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52640" y="795492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72440" y="7954920"/>
            <a:ext cx="1706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52560" y="873108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52640" y="8726400"/>
            <a:ext cx="621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70640" y="872496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52560" y="95043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52640" y="950904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70640" y="95090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52560" y="1027764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52640" y="10277640"/>
            <a:ext cx="6211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70640" y="1027764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52560" y="110505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52640" y="1104732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70640" y="110473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52560" y="1182384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52640" y="11810880"/>
            <a:ext cx="621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70640" y="118141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52560" y="125967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52640" y="12588840"/>
            <a:ext cx="621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70640" y="1258560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52560" y="1337004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52640" y="13357080"/>
            <a:ext cx="621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70640" y="13349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40" y="148413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06640" y="14838480"/>
            <a:ext cx="6211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26440" y="14838480"/>
            <a:ext cx="1706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40" y="156146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06640" y="15609960"/>
            <a:ext cx="621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424640" y="15608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0" y="1638792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06640" y="16392600"/>
            <a:ext cx="6211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24640" y="163926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40" y="171608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06640" y="1716084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424640" y="171608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37916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37916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37916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37916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37916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37916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37916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37916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326600" y="79549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326600" y="872820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326600" y="95058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326600" y="1027440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326600" y="110473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326600" y="1182060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326600" y="1259352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326600" y="1336680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380600" y="148384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380600" y="156114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380600" y="16389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80600" y="17157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1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04840" y="0"/>
            <a:ext cx="621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67760" y="0"/>
            <a:ext cx="1550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6937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04840" y="690480"/>
            <a:ext cx="6211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54800" y="689040"/>
            <a:ext cx="1719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0796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04840" y="1076400"/>
            <a:ext cx="621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54800" y="10746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4670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04840" y="1463760"/>
            <a:ext cx="6211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54800" y="145908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8525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04840" y="1851120"/>
            <a:ext cx="6211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54800" y="18446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2399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04840" y="2236680"/>
            <a:ext cx="6211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54800" y="222876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272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04840" y="2624040"/>
            <a:ext cx="621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54800" y="26179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0132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04840" y="3011400"/>
            <a:ext cx="621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54800" y="30132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4005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04840" y="3398760"/>
            <a:ext cx="621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54800" y="33973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7861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04840" y="3784680"/>
            <a:ext cx="6211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54800" y="3782880"/>
            <a:ext cx="17067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41734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04840" y="4172040"/>
            <a:ext cx="621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54800" y="41688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45608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04840" y="4559400"/>
            <a:ext cx="6211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354800" y="45594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494676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04840" y="4946760"/>
            <a:ext cx="6211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54800" y="49417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533412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04840" y="5332320"/>
            <a:ext cx="6211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54800" y="532764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571968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04840" y="5719680"/>
            <a:ext cx="621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54800" y="571500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610704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04840" y="6107040"/>
            <a:ext cx="621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54800" y="61009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6494400"/>
            <a:ext cx="105264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04840" y="6494400"/>
            <a:ext cx="62103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4800" y="6489720"/>
            <a:ext cx="172080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75801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57480" y="7577280"/>
            <a:ext cx="6211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77280" y="7577280"/>
            <a:ext cx="1706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2280" y="83534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57480" y="8348760"/>
            <a:ext cx="621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575480" y="83469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912636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57480" y="9131400"/>
            <a:ext cx="6211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75480" y="91314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2280" y="989964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57480" y="989964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75480" y="989964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379160" y="69048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379160" y="107784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379160" y="148428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379160" y="186696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379160" y="223992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379160" y="261288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379160" y="298620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379160" y="334476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380600" y="372888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6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380600" y="410220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380600" y="447984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380600" y="484812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380600" y="522144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380600" y="562284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0380600" y="599616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380600" y="6369120"/>
            <a:ext cx="777960" cy="36036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7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531440" y="75772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531440" y="83502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531440" y="9128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531440" y="98964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1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04840" y="0"/>
            <a:ext cx="621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8-09-26T03:40:47Z</dcterms:modified>
  <cp:revision>351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