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03EB-A811-4A3A-9135-9ECAECE9D3E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3B9-9721-4E7F-BE05-B6367346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968-D4A4-4C57-8608-012F8F96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4D7-075B-40E3-8EF5-CAD068AC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5B9-6B8B-4EE1-A99A-4D5D3713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6F2-9C3B-49D0-922B-080174D7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200-BAD8-468F-84FF-DE23C2B3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517-0B01-4D6B-A27D-C0F1C560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126-A6AE-4F16-A576-AC238F48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2E9-28C8-499E-8DF8-8261D210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2CE-FBC5-426D-B9A1-F4A6563E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1FB-7A75-489F-BEA3-A48DF388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70C-F32D-4169-B17B-647AE739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F13A-FEF6-40D7-9041-70DB0F25EDE6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80" y="69048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69048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80360" y="6904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" y="14605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4080" y="146052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" y="22399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54080" y="223992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80360" y="22399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" y="300816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54080" y="300816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80360" y="30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" y="378144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54080" y="378144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80360" y="3781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80" y="454644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54080" y="454644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0360" y="45464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" y="532116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54080" y="532116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8036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80" y="60847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54080" y="6084720"/>
            <a:ext cx="3159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8036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1320" y="79549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2496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1320" y="872496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1320" y="95043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43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4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1320" y="1027440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4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47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1320" y="1104732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108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1320" y="1181088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0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8560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1320" y="1258560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49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1320" y="13349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3848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1320" y="1483848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0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1320" y="1560816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1320" y="16387920"/>
            <a:ext cx="30812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8792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1320" y="17160840"/>
            <a:ext cx="30812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23200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232000" y="1460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2232000" y="2239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232000" y="30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232000" y="3781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2232000" y="454644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2232000" y="5321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2232000" y="60847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229248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292480" y="8724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2292480" y="9504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29248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229248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2292480" y="1181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2292480" y="12585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292480" y="13349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23848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238480" y="1560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238480" y="163879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23848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0"/>
            <a:ext cx="25257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8880" y="0"/>
            <a:ext cx="304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5640" y="6904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4200" y="14605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4200" y="22399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4200" y="30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4200" y="3781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64200" y="45464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4200" y="5321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4200" y="60847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7954920"/>
            <a:ext cx="30481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8880" y="872496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8880" y="95043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8880" y="1027440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8880" y="1104732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8880" y="1181088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8880" y="1258560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8880" y="13349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24320" y="14838480"/>
            <a:ext cx="30481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2880" y="1560816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22880" y="16387920"/>
            <a:ext cx="30733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22880" y="17160840"/>
            <a:ext cx="30733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843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4840" y="68436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68436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0746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4840" y="107460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4590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45908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844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04840" y="184464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28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4840" y="22287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617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04840" y="26179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081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04840" y="300816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30081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97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04840" y="33973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7828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4840" y="378288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1688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04840" y="416880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559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04840" y="45594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1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04840" y="49417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327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04840" y="532764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710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04840" y="571032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54800" y="5710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0958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04840" y="609588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54800" y="60958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489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4840" y="6489720"/>
            <a:ext cx="312120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360" y="70581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8720" y="7058160"/>
            <a:ext cx="312084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73880" y="70581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360" y="74563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98720" y="7456320"/>
            <a:ext cx="3120840" cy="35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72440" y="7456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0" y="78408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96920" y="78408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70640" y="7840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20" y="821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96920" y="8217000"/>
            <a:ext cx="3121200" cy="3585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70640" y="8217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2536920" y="533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-2536920" y="9190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2536920" y="13064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2536920" y="16938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2536920" y="2081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2536920" y="2468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2536920" y="2855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2536920" y="3243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2535120" y="36291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2535120" y="4016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2535120" y="44038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2535120" y="479124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2535120" y="5178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535120" y="556560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535120" y="595296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2535120" y="6340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2529000" y="69055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2529000" y="730728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2530440" y="76723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2530440" y="8035920"/>
            <a:ext cx="36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04840" y="0"/>
            <a:ext cx="3121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4040" y="-30240"/>
            <a:ext cx="1712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26040" y="684360"/>
            <a:ext cx="31255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26040" y="10746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26040" y="14590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26040" y="18446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26040" y="22287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26040" y="26179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26040" y="30081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26040" y="33973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29280" y="3782880"/>
            <a:ext cx="3101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26040" y="41688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26040" y="45594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26040" y="49417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26040" y="532764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26040" y="57103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26040" y="609588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26040" y="648972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45120" y="705816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43320" y="7456320"/>
            <a:ext cx="312912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41880" y="78408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41880" y="8217000"/>
            <a:ext cx="3128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41:41Z</dcterms:modified>
  <cp:revision>37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