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1BB-E5FC-4D9A-8A67-9F167590C9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009-EA21-414E-A093-CB61A6DE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0CD-DA71-4412-9DA1-BCE4C0B8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AB4-3AD5-4F91-BA0E-50DDD6E6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E25-A164-496C-9EB5-528D898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F82-6DA9-451F-B56F-0CDD79A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168-585D-4360-A961-B389838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0FB-9C77-47DC-BF4C-28E591DB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D9C-B23A-41FF-BFDF-355CEF5B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9A6-4857-4FEE-96FE-D19E834C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2A3-2A4A-46FC-9494-2D31785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640-B7F3-4353-B76C-CDC6F4B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BF1-BAB3-470F-9227-5BD3E50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BDC-998C-4481-84F6-8D89C5CB679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160" y="69048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0640" y="69048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07360" y="690480"/>
            <a:ext cx="1652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14605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0640" y="14605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08800" y="14605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0" y="22399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22399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8800" y="22399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" y="3008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0640" y="3008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08800" y="3008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60" y="3781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0640" y="3781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8800" y="3781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60" y="454644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454644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08800" y="454644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60" y="532116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0640" y="532116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532116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60" y="6084720"/>
            <a:ext cx="934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0640" y="6084720"/>
            <a:ext cx="2476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08800" y="6084720"/>
            <a:ext cx="1650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79549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8440" y="872496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38440" y="95043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8440" y="10274400"/>
            <a:ext cx="2394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8440" y="1104732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8440" y="1181088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38440" y="1258560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3349160"/>
            <a:ext cx="2394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440" y="1483848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440" y="1560816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440" y="16387920"/>
            <a:ext cx="2393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17160840"/>
            <a:ext cx="2393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59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92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592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592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3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360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360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3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360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360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760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760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14605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22399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008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2920" y="3781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2920" y="454644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2920" y="532116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2920" y="6084720"/>
            <a:ext cx="30736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1000" y="6890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1000" y="1074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1000" y="1461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1000" y="184932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1000" y="2235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1000" y="2622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1000" y="3009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1000" y="339732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1000" y="378288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1000" y="41702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1000" y="455760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1000" y="494496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1000" y="533088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1000" y="571824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1000" y="610560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1000" y="64929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66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14520" y="7061040"/>
            <a:ext cx="270504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628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67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7461360"/>
            <a:ext cx="270504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613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27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2720" y="7831080"/>
            <a:ext cx="2705400" cy="3621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32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19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12720" y="8194680"/>
            <a:ext cx="2705400" cy="36180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1961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1600" y="690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1600" y="10764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1600" y="14637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01600" y="1851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1600" y="2238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01600" y="2625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1600" y="3013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01600" y="3400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03400" y="37861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03400" y="41734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03400" y="4560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3400" y="49482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3400" y="53355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03400" y="5722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3400" y="6110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03400" y="6497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09520" y="70628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9520" y="7464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78296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819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604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22680" y="685800"/>
            <a:ext cx="282888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22680" y="10717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22680" y="1455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2680" y="1841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22680" y="22255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22680" y="2614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2680" y="30099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22680" y="33940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22680" y="3780000"/>
            <a:ext cx="2808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22680" y="41655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22680" y="45561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22680" y="49388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22680" y="53244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22680" y="571176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22680" y="60976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2680" y="648648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41760" y="705960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40320" y="745812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8520" y="78296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38520" y="8193240"/>
            <a:ext cx="2832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10-15T02:48:27Z</dcterms:modified>
  <cp:revision>37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