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F6A4-D5EC-43CC-9852-5315849DEF9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9C2-89D1-4700-B17F-FDBBA778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471-EB1D-474E-9AA8-B3FD8E99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98E-761B-4C63-BB3D-B2C919B3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74D-9204-47DB-AE27-8AC313BE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35A-83A9-414F-8995-C4829EAE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29A9-2036-4FB2-A888-EB2DDADF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3FC-E6A7-42D2-95DD-2C94F8E8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55D-20E8-44A6-A9C1-F3DFF251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C91-35F3-4705-8A44-EB894F5B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9A9-E33D-4BAF-94C6-0EBA1044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9DB-CEAD-48C8-A8E4-6F689D71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0A5-936C-4E16-B671-3EDCB935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6556-75B7-4B89-92EF-6F685D1BB968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0" y="69048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69048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7760" y="69048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0" y="14605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146052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96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0" y="22399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23992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65960" y="22399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0" y="300816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00816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65960" y="30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0" y="378144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378144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65960" y="3781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0" y="454644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54644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65960" y="4546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0" y="532116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532116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6596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0" y="60847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6084720"/>
            <a:ext cx="5615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6596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38440" y="79549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8440" y="872496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38440" y="95043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38440" y="1027440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38440" y="1104732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8440" y="1181088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38440" y="1258560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38440" y="133491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440" y="1483848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440" y="1560816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440" y="16387920"/>
            <a:ext cx="56149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440" y="17160840"/>
            <a:ext cx="561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684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684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684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684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684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684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684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684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3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360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360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3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3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360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360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360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7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760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760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7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0"/>
            <a:ext cx="5851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93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1000" y="6904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54800" y="68904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079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1000" y="1076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6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1000" y="146376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852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1000" y="18511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2399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1000" y="22366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272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1000" y="26240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0132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1000" y="3011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54800" y="301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400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1000" y="339876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78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1000" y="37846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173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1000" y="41720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560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1000" y="4559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9467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1000" y="494676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334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1000" y="533232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7196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1000" y="571968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4800" y="5715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1070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1000" y="61070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54800" y="6100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4944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1000" y="64944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360" y="7066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14520" y="706284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73880" y="7062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360" y="7467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14520" y="7462800"/>
            <a:ext cx="57578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72440" y="74613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20" y="7827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12720" y="7832880"/>
            <a:ext cx="57582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70640" y="7832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20" y="819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12720" y="8196120"/>
            <a:ext cx="57582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70640" y="8196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01600" y="690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01600" y="10764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01600" y="14637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01600" y="1851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01600" y="2238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01600" y="2625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01600" y="3013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01600" y="3400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03400" y="3786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03400" y="4173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03400" y="4560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03400" y="4948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03400" y="5335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03400" y="5722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03400" y="6110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03400" y="6497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09520" y="7062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09520" y="7464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08080" y="7829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08080" y="819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42:19Z</dcterms:modified>
  <cp:revision>358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