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Rank" id="1">
      <p:sldLst>
        <p:sld r:id="rId7"/>
      </p:sldLst>
    </p:custShow>
    <p:custShow name="ShowBlank" id="2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E0A6C-5C43-4C44-BAFE-96CA8A860EA2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, ShowDetailScroll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排行榜主题幻灯。其中唯一的文本框会被打分软件自动填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用户可以随意修改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保证标题文本框层次号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即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, ShowDetailScroll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, ShowDetailScroll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排行榜结果展示幻灯。里面的文本框及图片框不能删除，但可以随意拖动。此模板不展示选手照片，所以照片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61-80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在可视界面之外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78C5-01EC-49CC-A472-7A63765DC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4744-A01A-475E-A4BF-E994226A3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D268-7690-4924-84F0-A72A0FF18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91E0-49CC-4E07-AEE8-ECD6B9B52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D15C-A6E0-4B73-B15D-15ADB38C0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5164-EA93-486D-BFF1-4B07E51A6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3125-7468-4B30-9FF6-F55B2F57A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7A7D-5DE2-489D-9852-F57E1795D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BDBB-DFBA-4D02-BA0F-2A13CFF2B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87EE-CADB-4783-8766-7C1C5883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875E-0B3F-41AC-8B5E-E5EBDFE04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D3F5-90FD-4D3C-8E9F-04A0C22A5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B774E-ED4C-4C76-B335-9799C4722B62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76640"/>
            <a:ext cx="9144000" cy="244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活动主题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636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2446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0132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7828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54644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3244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7048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330120" y="598320"/>
            <a:ext cx="9817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0930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0760" y="693720"/>
            <a:ext cx="100800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04840" y="690480"/>
            <a:ext cx="621180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54800" y="689040"/>
            <a:ext cx="171936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60" y="1208160"/>
            <a:ext cx="100800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04840" y="1203480"/>
            <a:ext cx="6210360" cy="46800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54800" y="1201680"/>
            <a:ext cx="172080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760" y="1720800"/>
            <a:ext cx="100800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04840" y="1716120"/>
            <a:ext cx="621180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354800" y="1714680"/>
            <a:ext cx="1720800" cy="46800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760" y="2233440"/>
            <a:ext cx="100800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04840" y="2230560"/>
            <a:ext cx="621180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354800" y="2227320"/>
            <a:ext cx="172080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760" y="2746440"/>
            <a:ext cx="100800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04840" y="2743200"/>
            <a:ext cx="621180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354800" y="2739960"/>
            <a:ext cx="172080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0760" y="3259080"/>
            <a:ext cx="100800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04840" y="3255840"/>
            <a:ext cx="621036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4800" y="3252960"/>
            <a:ext cx="1720800" cy="46800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0760" y="3773520"/>
            <a:ext cx="100800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1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04840" y="3770280"/>
            <a:ext cx="621036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354800" y="3767040"/>
            <a:ext cx="172080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2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60" y="4286160"/>
            <a:ext cx="100800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04840" y="4282920"/>
            <a:ext cx="621036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354800" y="4280040"/>
            <a:ext cx="1720800" cy="46800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0760" y="4799160"/>
            <a:ext cx="1008000" cy="46800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04840" y="4795920"/>
            <a:ext cx="621180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26</a:t>
            </a:r>
            <a:r>
              <a:rPr b="1" lang="zh-CN" sz="24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354800" y="4792680"/>
            <a:ext cx="170676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2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0760" y="5311800"/>
            <a:ext cx="100800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2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04840" y="5310360"/>
            <a:ext cx="6210360" cy="46800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2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54800" y="5305320"/>
            <a:ext cx="172080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760" y="5824440"/>
            <a:ext cx="100800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3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04840" y="5823000"/>
            <a:ext cx="621180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54800" y="5818320"/>
            <a:ext cx="172080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3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60" y="6337440"/>
            <a:ext cx="1008000" cy="46800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104840" y="6337440"/>
            <a:ext cx="6211800" cy="46800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54800" y="6332400"/>
            <a:ext cx="1720800" cy="468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3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-9721800" y="6362640"/>
            <a:ext cx="10080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-8667720" y="6361200"/>
            <a:ext cx="6211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-2417760" y="635652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9721800" y="6748560"/>
            <a:ext cx="10080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-8667720" y="6748560"/>
            <a:ext cx="621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-2417760" y="674388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-9721800" y="7135920"/>
            <a:ext cx="10080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-8667720" y="7135920"/>
            <a:ext cx="621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-2417760" y="712944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9721800" y="7523280"/>
            <a:ext cx="10080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8667720" y="7523280"/>
            <a:ext cx="621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2417760" y="751824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2280" y="758016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57480" y="7577280"/>
            <a:ext cx="6211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0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577280" y="7577280"/>
            <a:ext cx="17064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2280" y="835344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57480" y="8348760"/>
            <a:ext cx="6210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575480" y="834696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2280" y="912636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257480" y="9131400"/>
            <a:ext cx="6211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575480" y="9131400"/>
            <a:ext cx="1720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52280" y="989964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57480" y="9899640"/>
            <a:ext cx="6211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575480" y="989964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6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0379160" y="690480"/>
            <a:ext cx="7779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0379160" y="1077840"/>
            <a:ext cx="7779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379160" y="1484280"/>
            <a:ext cx="7779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379160" y="1866960"/>
            <a:ext cx="7779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379160" y="2239920"/>
            <a:ext cx="7779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0379160" y="2612880"/>
            <a:ext cx="7779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0379160" y="2986200"/>
            <a:ext cx="7779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0379160" y="3344760"/>
            <a:ext cx="7779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0380600" y="3728880"/>
            <a:ext cx="7779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380600" y="4102200"/>
            <a:ext cx="7779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380600" y="4479840"/>
            <a:ext cx="7779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380600" y="4848120"/>
            <a:ext cx="7779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380600" y="5221440"/>
            <a:ext cx="7779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0380600" y="5622840"/>
            <a:ext cx="7779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380600" y="5996160"/>
            <a:ext cx="7779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0380600" y="6369120"/>
            <a:ext cx="7779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531440" y="757728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0531440" y="835020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531440" y="91281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531440" y="989640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0"/>
            <a:ext cx="900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1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104840" y="0"/>
            <a:ext cx="6210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2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手信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424640" y="0"/>
            <a:ext cx="1551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3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</cp:lastModifiedBy>
  <dcterms:modified xsi:type="dcterms:W3CDTF">2018-09-26T03:00:56Z</dcterms:modified>
  <cp:revision>356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