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F31F-C279-4D72-8F93-C24F4E62210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39F-9D38-4862-B7AF-CF491D7A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6FA-402A-423E-85B8-C39A5C6E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A1B-ABB0-41F4-8B27-B3DC708F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5CD-3ED2-4F3D-A4B6-B87C83D9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40A-60DC-4C1B-A6BA-3A46997A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1AC-E315-4B84-88C9-68EAF3CF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DE5-E50E-414E-9B9F-A3789209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488-DA4F-41B4-BB83-B4DA3A03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1B4-9CC6-4A2C-95A4-2115D512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22B-D03A-4476-B33B-3E9441AF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B37-25DB-4484-80FD-CDD924DF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C5D-BB93-424B-8D73-6EB85581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45BE-DBE1-419D-9EB2-525386F45550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8436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84360"/>
            <a:ext cx="31212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6600" y="684360"/>
            <a:ext cx="1719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19556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195560"/>
            <a:ext cx="31212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19556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170820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170820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7082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221940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221940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22194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27320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273204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7320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32432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324324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32432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375588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375588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7558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426708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426708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42670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0" y="478008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478008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47800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0" y="529128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5291280"/>
            <a:ext cx="31212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529128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0" y="580392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580392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58039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240" y="631656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4840" y="6316560"/>
            <a:ext cx="31212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631656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0" y="821700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4840" y="82170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54800" y="8217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0" y="85993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4840" y="85993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4800" y="8599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0" y="89726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897264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4800" y="8972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40" y="93535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4840" y="93535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54800" y="9353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" y="9972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8720" y="997272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73880" y="9972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60" y="103712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98720" y="1037124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2440" y="103712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" y="107553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6920" y="107553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10755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" y="11131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6920" y="111315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70640" y="111315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536920" y="53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536920" y="9190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536920" y="1306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536920" y="1693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536920" y="2081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536920" y="2468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2536920" y="2855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536920" y="324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535120" y="3629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535120" y="4016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535120" y="4403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535120" y="4791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535120" y="5178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535120" y="5565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535120" y="59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535120" y="6340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529000" y="690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529000" y="7307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530440" y="7672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530440" y="8035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" y="46080"/>
            <a:ext cx="105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46080"/>
            <a:ext cx="311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4608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5120" y="46080"/>
            <a:ext cx="3085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29280" y="684360"/>
            <a:ext cx="312552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26040" y="1195560"/>
            <a:ext cx="31287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170820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26040" y="221940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26040" y="273204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26040" y="324324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26040" y="375588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26040" y="426708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27480" y="4780080"/>
            <a:ext cx="312732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26040" y="5291280"/>
            <a:ext cx="31287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26040" y="580392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26040" y="6316560"/>
            <a:ext cx="3128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26040" y="82170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26040" y="8599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26040" y="8972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26040" y="93535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45120" y="9972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43320" y="10371240"/>
            <a:ext cx="3129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1880" y="107553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1880" y="111315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36:57Z</dcterms:modified>
  <cp:revision>378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