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B49C-E8B6-479C-9CF5-96230CF41FB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1CE-FA6E-45DF-AC88-BBC8A01B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A30-6899-4F24-907D-EF241207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17F-34CB-4A47-BD0D-A8BEBC25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DBF-16C1-4426-8714-CE9DA3C9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AF2-23F5-43FE-B114-5CC30778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FB4-74E4-441A-8DF3-CADF740D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889-B69C-4AE3-87D1-365C4F77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FDE-188E-443F-9253-51D3D1FB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4D7-5883-4186-A6FB-88432731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69E-5091-429A-8E10-F0535115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331-EEFD-45DD-AEA7-776CD751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9B8-1F3D-40F8-BC58-03127837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5251-154E-4C96-B947-BB64B52E0F8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560" y="68580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1000" y="68580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4800" y="685800"/>
            <a:ext cx="1719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" y="119700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1000" y="119700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1970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" y="170820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1000" y="170820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7082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" y="221940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1000" y="221940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22194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" y="273060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1000" y="273060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7306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" y="324180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1000" y="324180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32418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" y="3753000"/>
            <a:ext cx="102852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1000" y="3753000"/>
            <a:ext cx="270504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375300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" y="4264200"/>
            <a:ext cx="102852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1000" y="4264200"/>
            <a:ext cx="270504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426420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" y="477504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1000" y="477504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4775040"/>
            <a:ext cx="1706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" y="528624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1000" y="528624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52862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" y="579744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1000" y="579744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57974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" y="6310440"/>
            <a:ext cx="10285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1000" y="6310440"/>
            <a:ext cx="270504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63104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" y="869616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1000" y="869616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4800" y="86961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" y="908352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1000" y="908352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4800" y="90835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" y="946944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1000" y="94694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54800" y="94694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" y="9858240"/>
            <a:ext cx="1028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1000" y="98582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54800" y="98582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60" y="1043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14520" y="104331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73880" y="1043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60" y="108396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14520" y="1083312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2440" y="10833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" y="111999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12720" y="11202840"/>
            <a:ext cx="270540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70640" y="1120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0" y="115682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12720" y="11566440"/>
            <a:ext cx="270540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70640" y="115682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1600" y="6858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1600" y="11970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1600" y="17082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01600" y="22194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27306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01600" y="324180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1600" y="3753000"/>
            <a:ext cx="3603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1600" y="4264200"/>
            <a:ext cx="3603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3400" y="477504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03400" y="528624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3400" y="579744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03400" y="6310440"/>
            <a:ext cx="36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03400" y="8696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9083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3400" y="94694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3400" y="9858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09520" y="1043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09520" y="108363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8080" y="11201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08080" y="115650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1000" y="0"/>
            <a:ext cx="270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8120" y="0"/>
            <a:ext cx="311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8120" y="68580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8120" y="119700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8120" y="170820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8120" y="221940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8120" y="273060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8120" y="324180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3753000"/>
            <a:ext cx="316692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8120" y="4264200"/>
            <a:ext cx="316692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8120" y="477504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18120" y="528624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8120" y="579744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8120" y="6310440"/>
            <a:ext cx="31669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8120" y="869616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18120" y="908352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8120" y="94694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18120" y="985824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0" y="1043136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35400" y="10829880"/>
            <a:ext cx="316728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33960" y="1120140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33960" y="11565000"/>
            <a:ext cx="31669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37:15Z</dcterms:modified>
  <cp:revision>3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