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C344-FFE0-4BCF-BB9D-FC02B617CB8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811-B75E-4D56-AF70-9D2C370D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6E9C-56CD-42A6-A85C-EFDB88BE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3EDC-8E05-4DD3-9680-163C430C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B72F-6DD7-4F1B-BAE7-C09CB55C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30E2-40C2-4DC1-B643-16A84051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598-9C95-4C94-9766-FE96FEA6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8335-5E90-48ED-A57E-FFD1A299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9A28-CFA3-4BF3-8EAE-92E26FFA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7A3C-7D0F-4C2E-8B8D-704C2360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9C9-924C-4293-B3AF-FC42E86E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F38F-5BD8-4C8E-BA0C-1D1B0DBA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B6A-669C-4917-96B2-C7B38F03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441A-0A27-4D7A-82C5-0B6B7FEE87A0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440" y="69372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1000" y="690480"/>
            <a:ext cx="57578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26360" y="689040"/>
            <a:ext cx="1719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440" y="120492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1000" y="1203480"/>
            <a:ext cx="575784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26360" y="120024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40" y="171756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1000" y="1716120"/>
            <a:ext cx="57578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26360" y="171288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440" y="223056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1000" y="2228760"/>
            <a:ext cx="57578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26360" y="222552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40" y="274320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1000" y="2741760"/>
            <a:ext cx="575784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26360" y="273852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40" y="325584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1000" y="3254400"/>
            <a:ext cx="57578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26360" y="325116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40" y="376884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1000" y="3767040"/>
            <a:ext cx="57578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26360" y="376380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40" y="428148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1000" y="4280040"/>
            <a:ext cx="575784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26360" y="427680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440" y="479412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1000" y="4792680"/>
            <a:ext cx="57578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26360" y="478944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40" y="530712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1000" y="5305320"/>
            <a:ext cx="57578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26360" y="530208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40" y="581976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1000" y="5818320"/>
            <a:ext cx="57578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26360" y="581508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40" y="6332400"/>
            <a:ext cx="1008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1000" y="6332400"/>
            <a:ext cx="57578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26360" y="632772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014876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66800" y="1014732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00960" y="10142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4600" y="1053468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66800" y="105346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00960" y="10530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4600" y="1092204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66800" y="109220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00960" y="109155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4600" y="1130940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66800" y="11309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00960" y="11304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5520" y="118666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60680" y="118634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20040" y="118634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5520" y="122680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60680" y="12263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18240" y="12261960"/>
            <a:ext cx="17211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080" y="12628440"/>
            <a:ext cx="105228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58880" y="126334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16800" y="126334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080" y="12996720"/>
            <a:ext cx="105228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58880" y="1299672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16800" y="12996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01600" y="69048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01600" y="1203480"/>
            <a:ext cx="36036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1600" y="171612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01600" y="222876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01600" y="2741760"/>
            <a:ext cx="36036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01600" y="325440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01600" y="376884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01600" y="428148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03400" y="479412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03400" y="530712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03400" y="581976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03400" y="633420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49200" y="101505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49200" y="105379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9200" y="109252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9200" y="113126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5680" y="118634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5680" y="122652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54240" y="12630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4240" y="12993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17:00Z</dcterms:modified>
  <cp:revision>363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