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2B70-B2D7-4256-8DE4-02C449D0642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2057-8384-49D0-9ED8-DF09B2EF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EE41-6319-4959-83E4-A966C550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0BBB-F41D-4BB5-8E3F-612D922D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05CE-01B5-4F21-AFF1-EC2F8C5A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8959-2475-4346-BEB7-891E4B3F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9186-40CB-425C-B81E-576C5595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DD0F-78E8-4A48-ABCF-4E3987F7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13E8-3778-49FB-8799-306C495F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EA28-FA3D-4732-A803-5CA47144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19D0-F702-46CA-8DC0-F0291A0F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5C93-6A9A-4940-9B95-E290F383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1115-90E5-424A-BBCF-F6D04953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761D-1A6A-40B5-B730-93A12E165E6A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63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04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60" y="69372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54800" y="689040"/>
            <a:ext cx="1719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107964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07640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54800" y="10746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0" y="146700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146376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54800" y="14590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0" y="185256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185112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54800" y="1844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0" y="223992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223668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54800" y="22287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0" y="262728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262404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4800" y="2617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" y="301320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301140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54800" y="30132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0" y="340056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339876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54800" y="33973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760" y="378612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04840" y="378468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54800" y="3782880"/>
            <a:ext cx="1706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60" y="417348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04840" y="417204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54800" y="41688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760" y="456084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04840" y="455940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45594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60" y="494676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04840" y="494676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54800" y="4941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760" y="533412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04840" y="533232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54800" y="5327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760" y="571968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04840" y="571968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54800" y="57150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0" y="610704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04840" y="610704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54800" y="6100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760" y="649440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04840" y="649440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54800" y="6489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7580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7480" y="757728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77280" y="7577280"/>
            <a:ext cx="1706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83534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57480" y="8348760"/>
            <a:ext cx="621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75480" y="83469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9126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57480" y="913140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75480" y="91314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98996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57480" y="989964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75480" y="98996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379160" y="69048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379160" y="107784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379160" y="148428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379160" y="186696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379160" y="223992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379160" y="261288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379160" y="298620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379160" y="334476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380600" y="372888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380600" y="410220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380600" y="447984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380600" y="484812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380600" y="522144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380600" y="562284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80600" y="599616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380600" y="636912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531440" y="7577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531440" y="83502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531440" y="912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531440" y="9896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048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560" y="693720"/>
            <a:ext cx="1052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04840" y="6904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86480" y="690480"/>
            <a:ext cx="1706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560" y="1467000"/>
            <a:ext cx="105228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04840" y="146196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8504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" y="2239920"/>
            <a:ext cx="1052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04840" y="224460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85040" y="2244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60" y="3013200"/>
            <a:ext cx="105228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04840" y="301320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85040" y="30132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560" y="3786120"/>
            <a:ext cx="1052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04840" y="37828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85040" y="3782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560" y="4559400"/>
            <a:ext cx="105228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04840" y="454644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85040" y="45496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60" y="5332320"/>
            <a:ext cx="1052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04840" y="532440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8504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560" y="6105600"/>
            <a:ext cx="105228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4840" y="6093000"/>
            <a:ext cx="621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8504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52560" y="795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52640" y="795492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72440" y="7954920"/>
            <a:ext cx="1706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52560" y="873108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52640" y="8726400"/>
            <a:ext cx="621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70640" y="872496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52560" y="9504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52640" y="950904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70640" y="95090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52560" y="1027764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52640" y="1027764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70640" y="1027764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52560" y="110505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52640" y="1104732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70640" y="110473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52560" y="1182384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52640" y="11810880"/>
            <a:ext cx="621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70640" y="118141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52560" y="125967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52640" y="12588840"/>
            <a:ext cx="621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70640" y="12585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52560" y="1337004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52640" y="13357080"/>
            <a:ext cx="621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70640" y="13349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40" y="14841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06640" y="1483848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426440" y="14838480"/>
            <a:ext cx="1706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0" y="156146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06640" y="15609960"/>
            <a:ext cx="621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24640" y="156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0" y="1638792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06640" y="1639260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24640" y="163926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40" y="171608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06640" y="1716084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24640" y="171608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37916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37916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37916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37916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37916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37916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7916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37916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326600" y="7954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326600" y="87282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326600" y="95058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326600" y="102744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326600" y="110473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326600" y="118206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326600" y="125935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326600" y="133668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380600" y="14838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380600" y="15611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380600" y="16389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380600" y="17157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922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8-09-26T02:45:38Z</dcterms:modified>
  <cp:revision>353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