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2780-6F1B-453A-90D6-26CE21162BE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B50-1C04-4727-892F-3CC90F30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F60-ED34-4960-8DCC-C5EB6CC6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074-5F1A-4EAE-B597-D3B39A1D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68A-8191-4E64-9DA2-9A3DF449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DDD-38ED-46F1-B0D4-DF00A9A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AA5-E95A-434E-8A40-B9C28C9A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D3B-F371-4E4C-BEA7-3CABC1BC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92B-C869-4685-9C17-764A3016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1FE-D52F-4549-85E5-DE87ADBC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B56-39A1-4D8D-8B37-6B0AD19C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A50-66A3-4C87-94E4-F808C90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D25-655D-4D0E-9471-F8D6AF61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4970-95D3-45B7-A062-25A64A834F1F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843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843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6600" y="684360"/>
            <a:ext cx="1719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0746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0746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14590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145908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18446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1844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22287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22287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26049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26049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26049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29955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29955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29955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33847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33847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3384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0" y="37702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37702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37702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0" y="41562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41562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4156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0" y="45338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45338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4533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240" y="49165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4840" y="49165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4916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0" y="53020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4840" y="53020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5302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0" y="56847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4840" y="56847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5684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0" y="60580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605808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6058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40" y="64389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4840" y="64389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64389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705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8720" y="705816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705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7456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98720" y="7456320"/>
            <a:ext cx="312084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7456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7840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6920" y="78408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7840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821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6920" y="82170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8217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536920" y="53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536920" y="9190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536920" y="1306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536920" y="1693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536920" y="2081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536920" y="2468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2536920" y="2855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536920" y="324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535120" y="3629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535120" y="4016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535120" y="4403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535120" y="4791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535120" y="5178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535120" y="5565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535120" y="59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535120" y="6340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529000" y="690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529000" y="7307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530440" y="7672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530440" y="8035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" y="46080"/>
            <a:ext cx="105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46080"/>
            <a:ext cx="311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4608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5120" y="46080"/>
            <a:ext cx="3085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29280" y="684360"/>
            <a:ext cx="3125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26040" y="10746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1459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26040" y="1844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26040" y="22287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26040" y="26049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26040" y="29955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26040" y="3384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27480" y="3770280"/>
            <a:ext cx="31273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26040" y="41562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26040" y="45338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26040" y="49165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26040" y="5302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26040" y="56847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26040" y="6058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26040" y="64389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45120" y="705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43320" y="7456320"/>
            <a:ext cx="3129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1880" y="7840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1880" y="82170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904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1320" y="69048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4605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1320" y="14605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1320" y="22399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2320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0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1320" y="3008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2320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781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1320" y="37814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2320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46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1320" y="45464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2320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21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1320" y="5321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084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1320" y="60847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1320" y="79549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1320" y="872496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1320" y="95043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1320" y="1027440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1320" y="110473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1320" y="1181088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1320" y="1258560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1320" y="13349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1320" y="1483848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1320" y="15608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1320" y="1638792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1320" y="171608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223200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223200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23200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223200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223200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23200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223200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223200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229248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229248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229248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229248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229248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29248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29248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229248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23848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223848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223848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223848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0"/>
            <a:ext cx="25257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22880" y="690480"/>
            <a:ext cx="3047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1080" y="14605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21080" y="22399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21080" y="30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21080" y="3781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21080" y="4546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21080" y="5321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1080" y="60847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6:20Z</dcterms:modified>
  <cp:revision>37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