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A26F-92D7-4066-A117-E4587F1D47A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6D0-605F-42A7-A249-2ADFC84A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50FF-96BF-45FC-9C46-599F95B9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2E6-0ACB-4CF4-A581-C6D4274C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087-5785-401A-BE2D-DE8C5972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448-6B40-4F17-9B62-2D3784AC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186-0DDA-4C83-9FC4-9BF6CBBF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27E-84A4-427A-9A17-9442E473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A52-9DD2-41E2-9B57-2065BED8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186-A07E-40D2-A49F-9E88D74A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67B-8E5F-4541-9267-FF81E257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C8A-1DB2-4B64-B52C-D84FA595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FDD-9BAA-428D-B6C1-3C14341E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4376-1E54-41E2-AFF5-87B3A840E24A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560" y="68580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1000" y="68580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54800" y="68580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" y="107172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1000" y="107172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54800" y="107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" y="145584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1000" y="145584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54800" y="14558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" y="184140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1000" y="184140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54800" y="1841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" y="222552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1000" y="222552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54800" y="22255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" y="261468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1000" y="261468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4800" y="26146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" y="299736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1000" y="29973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4800" y="29973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" y="338148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1000" y="338148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54800" y="33814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" y="376704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1000" y="376704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54800" y="376704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560" y="415296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1000" y="41529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54800" y="41529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" y="454356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1000" y="45435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45435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" y="493884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1000" y="493884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54800" y="49388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60" y="532440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1000" y="532440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54800" y="5324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" y="571176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1000" y="571176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54800" y="5711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" y="609768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1000" y="609768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54800" y="60976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" y="648648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1000" y="648648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54800" y="64864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60" y="70660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14520" y="706104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73880" y="70628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60" y="7467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14520" y="74613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72440" y="74613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" y="7827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12720" y="7831080"/>
            <a:ext cx="270540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70640" y="78328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20" y="819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12720" y="8194680"/>
            <a:ext cx="270540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70640" y="81961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01600" y="6858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1600" y="10717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1600" y="1455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01600" y="18414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01600" y="2225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01600" y="26146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01600" y="29973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01600" y="3381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03400" y="37670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03400" y="41529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03400" y="4543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03400" y="4938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03400" y="53244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57117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03400" y="60976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3400" y="6486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09520" y="7062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09520" y="7464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08080" y="7829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08080" y="819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1000" y="0"/>
            <a:ext cx="270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8120" y="0"/>
            <a:ext cx="311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8120" y="68580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18120" y="107172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8120" y="145584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8120" y="184140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8120" y="222552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8120" y="261468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8120" y="299736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8120" y="338148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8120" y="376704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18120" y="415296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8120" y="454356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8120" y="493884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8120" y="532440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18120" y="571176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8120" y="609768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18120" y="648648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37200" y="705960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35400" y="7458120"/>
            <a:ext cx="316728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33960" y="782964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33960" y="819324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904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09720" y="690480"/>
            <a:ext cx="239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4605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09720" y="1460520"/>
            <a:ext cx="239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09720" y="2239920"/>
            <a:ext cx="239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23200" y="22399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0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09720" y="3008160"/>
            <a:ext cx="239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23200" y="30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781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09720" y="3781440"/>
            <a:ext cx="239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23200" y="3781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546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09720" y="4546440"/>
            <a:ext cx="239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23200" y="4546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321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09720" y="5321160"/>
            <a:ext cx="239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084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09720" y="6084720"/>
            <a:ext cx="239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38440" y="795492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52560" y="872496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38440" y="8724960"/>
            <a:ext cx="2394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38440" y="950436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70640" y="95043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52560" y="10274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38440" y="10274400"/>
            <a:ext cx="2394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70640" y="10274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52560" y="11047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38440" y="1104732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52560" y="118108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38440" y="1181088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70640" y="11810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52560" y="1258560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38440" y="1258560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52560" y="13349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38440" y="1334916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" y="1483848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92440" y="14838480"/>
            <a:ext cx="2393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0" y="156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92440" y="15608160"/>
            <a:ext cx="2393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92440" y="16387920"/>
            <a:ext cx="2393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24640" y="1638792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2440" y="17160840"/>
            <a:ext cx="2393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5408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54080" y="1460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54080" y="2239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54080" y="30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54080" y="3781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54080" y="4546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4080" y="5321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54080" y="60847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9360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93600" y="8724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93600" y="9504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360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9360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93600" y="1181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3600" y="12585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3600" y="13349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4760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7600" y="156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47600" y="163879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760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0"/>
            <a:ext cx="25257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8880" y="0"/>
            <a:ext cx="304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22880" y="690480"/>
            <a:ext cx="3047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21080" y="14605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21080" y="22399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21080" y="30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21080" y="37814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21080" y="45464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21080" y="5321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1080" y="60847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70320" y="7954920"/>
            <a:ext cx="30481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68880" y="872496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8880" y="95043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68880" y="1027440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8880" y="110473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68880" y="118108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8880" y="1258560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8880" y="13349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24320" y="14838480"/>
            <a:ext cx="30481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22880" y="156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22880" y="1638792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22880" y="171608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38:17Z</dcterms:modified>
  <cp:revision>373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