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2AFD-6088-4B49-8F00-222D1EE2ACA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FB5-7062-40CC-A932-DECC7255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A7E-33C3-4848-8FEE-421DB2D7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DDB-924E-461B-89CD-26FD82AA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FE6-A277-435E-93A8-5BBF5439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7DD-F68E-4619-A697-201576F1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61AC-6FFC-4EDF-9D96-B156A28E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991-FE73-4EA3-85B0-21306C3C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E11-6D22-4081-A935-61CF3A30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2675-5028-434D-ABC6-82D692D5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398-EBAC-4776-A57D-6049C40D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A0E-BD68-4898-BFF9-4CBEA68F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973-D306-4925-958B-31F4A6E1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7BD7-7DCA-46C1-B02F-0FA1DDBC8EB8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440" y="69372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1000" y="6904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54800" y="68904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40" y="107964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1000" y="1076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40" y="146700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1000" y="146376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40" y="185256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1000" y="18511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40" y="223992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1000" y="22366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40" y="262728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1000" y="26240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40" y="301320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1000" y="3011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4800" y="301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40" y="340056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1000" y="339876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40" y="380052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1000" y="37987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4800" y="37972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40" y="418788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1000" y="41860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54800" y="418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40" y="457524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1000" y="45734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45734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40" y="496080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1000" y="49608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54800" y="4956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40" y="534816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1000" y="53467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54800" y="53420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440" y="573408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1000" y="57340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4800" y="572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440" y="612144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1000" y="61214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54800" y="61149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40" y="6508800"/>
            <a:ext cx="10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1000" y="65088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54800" y="6504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60" y="7066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14520" y="70628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73880" y="7062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60" y="7467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14520" y="74628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72440" y="74613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" y="7827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12720" y="7832880"/>
            <a:ext cx="57582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70640" y="7832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0" y="819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12720" y="8196120"/>
            <a:ext cx="57582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70640" y="8196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1600" y="690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1600" y="10764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1600" y="14637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01600" y="1851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01600" y="2238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01600" y="2625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1600" y="3013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01600" y="3400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03400" y="3800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03400" y="4187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03400" y="4575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03400" y="4962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03400" y="53499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5737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3400" y="61246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3400" y="65120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09520" y="7062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09520" y="7464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08080" y="7829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08080" y="819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904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09720" y="69048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4605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09720" y="14605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09720" y="22399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23200" y="22399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09720" y="30081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23200" y="30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781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09720" y="378144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23200" y="3781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546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9720" y="454644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23200" y="4546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321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09720" y="53211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084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09720" y="60847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38440" y="79549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38440" y="872496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8440" y="95043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38440" y="1027440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38440" y="110473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38440" y="1181088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38440" y="1258560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38440" y="133491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440" y="1483848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440" y="156081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440" y="1638792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440" y="1716084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5408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5408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5408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5408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5408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5408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408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5408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3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360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360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3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3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9360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360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360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7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760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760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47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0"/>
            <a:ext cx="5851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2:46:30Z</dcterms:modified>
  <cp:revision>361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