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C627-9163-43CE-959D-B1F91E6C199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F129-DF48-4025-93ED-A6A40138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87B3-019F-4799-85E2-E1FC6488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959-D18F-4DEA-9048-0FDDC5FC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FB9C-381B-4C22-B6CC-79B74764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CFE0-65C6-42FD-92B4-4588D211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3A2C-8D69-4DC5-A81E-C2AA0AFE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A4A2-9E4E-4B1D-8487-5E425CAB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1C1-C52B-460A-AF2B-665B9B6E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879D-14C0-47C3-A596-2E16C6FA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946-B429-4B98-A4F1-FC5CF51E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323-D6C9-41C3-89F2-793789BA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2F2-277D-4FF5-AD4E-CC1B6020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32A7-1AE7-4387-B76D-F90E7F212466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080" y="69048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69048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80360" y="6904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80" y="14605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54080" y="146052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8036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080" y="22399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54080" y="223992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80360" y="22399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" y="300816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54080" y="300816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80360" y="30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80" y="378144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54080" y="378144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80360" y="3781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80" y="454644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54080" y="454644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80360" y="4546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" y="532116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54080" y="532116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8036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80" y="60847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54080" y="608472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8036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52560" y="795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1320" y="795492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72440" y="795492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52560" y="872496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1320" y="8724960"/>
            <a:ext cx="30812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70640" y="872496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52560" y="9504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1320" y="950436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70640" y="95043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52560" y="10274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1320" y="10274400"/>
            <a:ext cx="30812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70640" y="102744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52560" y="11047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1320" y="1104732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70640" y="110473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52560" y="118108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1320" y="1181088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70640" y="11810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2560" y="1258560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1320" y="1258560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70640" y="12585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52560" y="13349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1320" y="1334916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70640" y="13349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0" y="1483848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1320" y="14838480"/>
            <a:ext cx="30812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26440" y="148384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0" y="1560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1320" y="1560816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24640" y="156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0" y="1638792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11320" y="16387920"/>
            <a:ext cx="30812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24640" y="1638792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0" y="171608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1320" y="1716084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24640" y="171608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23200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2232000" y="14605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2232000" y="2239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2232000" y="30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232000" y="3781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2232000" y="4546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2232000" y="5321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2232000" y="60847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2292480" y="7954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2292480" y="8724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2292480" y="9504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2292480" y="102744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2292480" y="110473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2292480" y="1181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2292480" y="12585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2292480" y="13349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2238480" y="14838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2238480" y="156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2238480" y="163879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2238480" y="17157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0"/>
            <a:ext cx="25257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68880" y="0"/>
            <a:ext cx="304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5640" y="69048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4200" y="14605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64200" y="22399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64200" y="3008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64200" y="37814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64200" y="45464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64200" y="5321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64200" y="60847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70320" y="7954920"/>
            <a:ext cx="30481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8880" y="872496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68880" y="95043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8880" y="1027440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8880" y="110473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68880" y="1181088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8880" y="1258560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8880" y="13349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24320" y="14838480"/>
            <a:ext cx="30481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22880" y="15608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22880" y="1638792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22880" y="171608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6843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4840" y="68436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54800" y="684360"/>
            <a:ext cx="1719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0746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04840" y="107460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4800" y="10746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4590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04840" y="145908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4800" y="14590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8446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04840" y="184464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54800" y="1844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2287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04840" y="222876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54800" y="22287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6179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04840" y="261792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54800" y="2617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0081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04840" y="300816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54800" y="30081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3973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04840" y="339732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54800" y="3397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7828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04840" y="378288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4800" y="3782880"/>
            <a:ext cx="1706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1688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04840" y="416880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54800" y="41688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5594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04840" y="455940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54800" y="45594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9417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04840" y="494172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54800" y="4941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3276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04840" y="532764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54800" y="5327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7103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04840" y="571032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54800" y="5710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60958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04840" y="609588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54800" y="60958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4897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04840" y="648972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54800" y="6489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360" y="70581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8720" y="7058160"/>
            <a:ext cx="312084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73880" y="70581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360" y="74563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98720" y="7456320"/>
            <a:ext cx="312084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72440" y="7456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920" y="78408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96920" y="784080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70640" y="78408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20" y="82170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96920" y="821700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70640" y="82170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2536920" y="533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-2536920" y="9190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2536920" y="13064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-2536920" y="16938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-2536920" y="20811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2536920" y="2468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-2536920" y="28558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-2536920" y="3243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-2535120" y="36291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2535120" y="4016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2535120" y="44038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2535120" y="4791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2535120" y="5178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2535120" y="5565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2535120" y="59529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-2535120" y="63403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-2529000" y="6905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2529000" y="73072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2530440" y="76723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2530440" y="80359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04840" y="0"/>
            <a:ext cx="3121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64040" y="-30240"/>
            <a:ext cx="17128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26040" y="684360"/>
            <a:ext cx="3125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26040" y="10746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26040" y="145908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26040" y="184464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26040" y="22287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26040" y="26179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26040" y="30081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26040" y="33973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29280" y="3782880"/>
            <a:ext cx="3101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26040" y="41688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26040" y="45594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26040" y="49417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26040" y="532764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26040" y="57103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26040" y="609588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26040" y="64897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45120" y="70581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43320" y="7456320"/>
            <a:ext cx="3129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41880" y="78408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41880" y="82170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3:41:41Z</dcterms:modified>
  <cp:revision>37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