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3EDC-3F8B-4B96-BC12-4FC925F4981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71FA-B852-4DDE-B7BE-F79B3FCC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3DCC-D5D1-4FBF-ADDA-09D02E08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250B-0EF5-4D78-BB56-685FA7B0A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5708-6CB8-47C1-A5EE-B46FBCD4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74E0-B049-41FC-B863-92FCA70B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D23B-3F5A-4A47-869F-2D1F87AD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69BD-04E4-44FB-91D2-9A32DE32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FB54-8391-44B0-B0FF-0B1FA955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BD71-29F8-4D81-BB8A-AD0AF713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CE0F-D0D4-4CAF-A9C0-999AB827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2B20-B373-4406-A979-7FF39A9F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0572-C767-43F4-80C8-55FB46B1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50D1-50D3-4A01-8A1B-221A9A3549E2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63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04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160" y="69048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0640" y="690480"/>
            <a:ext cx="2476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07360" y="690480"/>
            <a:ext cx="1652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160" y="146052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0640" y="1460520"/>
            <a:ext cx="2476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08800" y="1460520"/>
            <a:ext cx="1650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160" y="223992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0640" y="2239920"/>
            <a:ext cx="2476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08800" y="2239920"/>
            <a:ext cx="1650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160" y="300816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0640" y="3008160"/>
            <a:ext cx="2476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08800" y="3008160"/>
            <a:ext cx="1650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160" y="378144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0640" y="3781440"/>
            <a:ext cx="2476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08800" y="3781440"/>
            <a:ext cx="1650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160" y="454644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0640" y="4546440"/>
            <a:ext cx="2476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08800" y="4546440"/>
            <a:ext cx="1650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160" y="532116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0640" y="5321160"/>
            <a:ext cx="2476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08800" y="5321160"/>
            <a:ext cx="1650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160" y="608472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0640" y="6084720"/>
            <a:ext cx="2476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08800" y="6084720"/>
            <a:ext cx="1650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52560" y="795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38440" y="7954920"/>
            <a:ext cx="2394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72440" y="7954920"/>
            <a:ext cx="1706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52560" y="872496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38440" y="8724960"/>
            <a:ext cx="2394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70640" y="872496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52560" y="95043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38440" y="9504360"/>
            <a:ext cx="2394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70640" y="95043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52560" y="102744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38440" y="10274400"/>
            <a:ext cx="2394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70640" y="102744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52560" y="110473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38440" y="11047320"/>
            <a:ext cx="2394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70640" y="110473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52560" y="1181088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38440" y="11810880"/>
            <a:ext cx="2394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70640" y="11810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52560" y="1258560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38440" y="12585600"/>
            <a:ext cx="2394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70640" y="12585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52560" y="13349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38440" y="13349160"/>
            <a:ext cx="2394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70640" y="13349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0" y="1483848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440" y="14838480"/>
            <a:ext cx="2393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26440" y="14838480"/>
            <a:ext cx="1706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0" y="1560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440" y="15608160"/>
            <a:ext cx="2393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24640" y="15608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0" y="1638792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440" y="16387920"/>
            <a:ext cx="2393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24640" y="1638792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40" y="171608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440" y="17160840"/>
            <a:ext cx="2393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24640" y="171608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1592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15920" y="14605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15920" y="22399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15920" y="3008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15920" y="378144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15920" y="454644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15920" y="5321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15920" y="60847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93600" y="79549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3600" y="8724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3600" y="9504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3600" y="1027440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93600" y="110473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93600" y="11810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93600" y="12585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93600" y="13349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47600" y="14838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47600" y="15608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47600" y="163879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7600" y="17157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0"/>
            <a:ext cx="259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68880" y="0"/>
            <a:ext cx="304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84720" y="69048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82920" y="1460520"/>
            <a:ext cx="30736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82920" y="2239920"/>
            <a:ext cx="30736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82920" y="3008160"/>
            <a:ext cx="30736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82920" y="3781440"/>
            <a:ext cx="30736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82920" y="4546440"/>
            <a:ext cx="30736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82920" y="5321160"/>
            <a:ext cx="30736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82920" y="6084720"/>
            <a:ext cx="30736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70320" y="7954920"/>
            <a:ext cx="30481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8880" y="8724960"/>
            <a:ext cx="30733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68880" y="95043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8880" y="10274400"/>
            <a:ext cx="30733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8880" y="1104732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68880" y="1181088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8880" y="1258560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68880" y="133491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24320" y="14838480"/>
            <a:ext cx="30481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22880" y="156081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22880" y="16387920"/>
            <a:ext cx="30733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22880" y="1716084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6937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1000" y="68904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54800" y="689040"/>
            <a:ext cx="1719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0796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21000" y="107460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54800" y="10746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4670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21000" y="146196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54800" y="14590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8525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1000" y="184932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54800" y="18446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2399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1000" y="223524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54800" y="22287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6272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21000" y="262260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54800" y="26179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0132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21000" y="300996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54800" y="30132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4005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1000" y="339732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54800" y="33973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7861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21000" y="378288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4800" y="3782880"/>
            <a:ext cx="1706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1734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1000" y="417024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54800" y="41688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5608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1000" y="455760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54800" y="45594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49467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21000" y="494496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54800" y="49417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53341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21000" y="533088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354800" y="53276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7196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1000" y="571824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54800" y="57150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61070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21000" y="610560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54800" y="61009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64944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1000" y="649296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54800" y="64897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360" y="70660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14520" y="706104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73880" y="70628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360" y="74674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14520" y="746136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72440" y="74613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920" y="78278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12720" y="7831080"/>
            <a:ext cx="270540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70640" y="78328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20" y="81961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12720" y="8194680"/>
            <a:ext cx="270540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370640" y="81961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01600" y="6904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01600" y="10764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01600" y="14637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01600" y="18511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01600" y="22384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01600" y="26258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01600" y="30132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01600" y="34005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03400" y="37861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03400" y="41734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03400" y="45608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03400" y="49482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03400" y="53355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03400" y="57229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03400" y="61102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03400" y="64976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09520" y="70628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09520" y="74646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08080" y="78296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08080" y="81932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04840" y="0"/>
            <a:ext cx="3121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26040" y="0"/>
            <a:ext cx="1550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22680" y="685800"/>
            <a:ext cx="282888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22680" y="107172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22680" y="145584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22680" y="184140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22680" y="222552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22680" y="261468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22680" y="300996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22680" y="339408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22680" y="3780000"/>
            <a:ext cx="2808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22680" y="416556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22680" y="455616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22680" y="493884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22680" y="532440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522680" y="571176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22680" y="609768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22680" y="648648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41760" y="705960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40320" y="745812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38520" y="782964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38520" y="819324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8-09-26T03:39:31Z</dcterms:modified>
  <cp:revision>369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